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F204-F381-4222-BFC0-615254D7D8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9498-F42A-41BE-9204-78DB7B8C523F}"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BCF6-66B9-4F3A-80B1-F4FA97E117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64FA-6FB4-49B4-B83E-2CF7D84054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a ce citesti definitia 1 si 2, e bine de intrebat clasa daca nu observa o eroare de rationament, de obicei se gaseste vreunul mai ratacit, daca nu ii ajutam… Ba spune ca nu are loc ovulatia, ba ca are lo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nu te sperii daca vor fi mai multi baieti in clasa, sau poate daca vei crede ca pe baieti nu-i intereseaza, atrage-le atentia (pentru ca e foarte posibil ca si ei sa gandeasca ca pe ei nu-i priveste si nu vor mai fi atenti) ca si de ei tine asta, ca pot spune si ei mai departe si nu care cumva sa-si sfatuiasca sotia vreodata sa ia asa ceva. Intr-un cuvant, responsabilizarea baietilor. Functioneaza foarte bine, de asta cred ca o ai succes acolo, ca baiat printre baieti. O sa fie bine.</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E55F-9463-4244-B79E-0A7BD246CF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ai pune ceva informatii si despre asta, ca mai spun si pe acasa copilasii ast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2679-13D4-45AC-A5CC-571C3B9D173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38D8-A99D-45C7-9806-45207981BF3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4F16-E3CB-4AD3-9EFD-060910FDC54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tie, despre cate feluri este… ce stiti despre ele etc. Poti sa si notezi pe tabla raspunsurile l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6048-CE39-4CEC-9D59-A56EA491AEC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ncercam sa le raspundem la intrebarea: Cine sunt acesti ei, care nu vor ca noi sa stim anumite lucruri? Mai precis sa intrebam clasa si ei sa raspunda, ar fi minunat daca se gaseste raspunsul ca sunt producatorii de tot felul de metode de contraceptie. Si de ce asta? Pentru ca este punctul nostru vulnerabil, asa putem fi exploatat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307D-49BA-485A-B064-0188C00E66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E3E3-B82A-4D50-9388-431E2647CA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10D1-E283-4C58-90DD-9D596338B2A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BF04-54EE-485D-9D79-2AA9C55D11D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BAD65-3763-4724-B1BE-D36DC9FF4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38A33-A4EC-4C48-8CED-034BA214B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49755-F65A-488F-AE90-42634FA1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9EED-4492-4038-81BD-8DC1E47D4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9EA70-C3EA-417F-B534-A1E700F42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BC9FF-CABD-42D4-9C8A-A0D08933E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DDE9A-D954-4322-AF0B-9C90C4E8E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6F4CF-0F06-4456-A38F-75789EE34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08184-A673-4D46-8F7C-3E69B1794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00C17-EB6D-4093-8655-1F7D1B989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10E80-79A8-4B96-A62F-AC5DBBC9B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DC0AC-7913-4EE8-BAB9-44F4A20E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293B4-5DC1-4341-9DCD-2437690F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0F877-5934-4170-9D52-EA4506A87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E271A-F530-43EA-BC98-31BFDCC0D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AF10-52E1-47D9-9975-9790E3F85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2F780-DD89-44BD-8ABB-CE1E3BD4F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40B3E-DBC2-4B42-BAC8-C026DE675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D396E-49E3-4412-BF00-BBF920F3A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64FA0-7257-414A-9A2E-01AF3EE9F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B8D6B-80ED-4193-99A7-FBED95CB6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5AB48-D8A9-4140-A9C5-EA9CA1120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388D-B22B-47D5-BD18-1F2122AA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57012-4426-4EF3-84E7-6FA42E7B2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7C4AB-225F-42D6-91E4-AFD4821DB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42B61-7A1D-438A-98BB-C9C399BA5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F4303-85F1-4B66-8CB5-726910078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DCC3A-BD10-4CE4-910E-85EA0948D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10093-79C5-4A04-BC1A-1F64B9D64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E61EEA-4083-4ACA-9C2C-E391EC2F9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55DBB-5F32-4D2A-A176-38DFC79D39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953E1-63B1-4493-93E5-50C13BE94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C921A-BE69-420B-A5BA-AD2797ED5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1F5E-C30E-4ED4-AD00-F20074107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1E051-3C61-425D-AFA5-FF83838D2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A5DD8-98EF-4D12-89EF-A22CA8834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DC15E-BE1F-4D65-B527-857C40BE8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2766C-A810-4ABB-8317-E5ABFD745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D3E01-1F72-40BB-967F-78F7FA64F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498CB-D845-42F8-8620-4FEBC9A68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57237A-B807-4372-B17B-B45ECDF13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6F1F8-01ED-4839-84EE-CB6B687FB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27C7D-76E7-4903-B95F-69E7FD7EE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88E11D-BB88-4D2A-BE85-F4A2CB52CF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9AE11-604E-4D40-B405-150A03AD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1B665-EE05-4C1A-9FBD-D38129E0F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5F818-AA34-4026-86A6-7699DFA38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9EE48-DE4C-4BFB-8FBB-811F37CEA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15AF3-49D5-481A-9892-0F9CC5CA2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FDE9E-1A9F-4138-8556-8902CF37B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5F8B8-4C27-4898-A453-3244401B4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16632-ADF9-4A65-8F01-5F99DCB0D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2C179-6134-4351-86A7-71660792E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09A8F1-BD9F-420F-8E20-36B882C3A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FC78C-3F3B-4C1D-A6AB-22E650F8EC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350B5-54D5-4920-B68F-98F91ECF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3C715-9D10-4A37-AC5C-6A302B5652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A131BB-F240-42B0-8BDC-45CE941ACF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8007E-D2C4-4DE6-9FDC-C65D0AB49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6BC43-E0A6-48D8-BF5B-B43D835D8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CE074-DAAE-40BA-85F6-8048E46B0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43BE2-93B6-4BB6-9F7C-24C2EBCBEA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E45D1B-36A6-4D33-B336-3D04A733A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8DCB6-0A6B-4D81-B3EA-6C0E8314E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3589D-CE29-4C0C-B1FB-467E2C667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3773C-C3FA-4765-AE94-DEBD9DE37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EECA-7CD1-4174-B6DB-755BA235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22F38-21A9-4258-8DB2-3BC3287AA7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AA22D7-F03C-4F7D-A132-EAD61DCA1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26601-A14F-468F-B513-41A468DBB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90F6F-4FA1-4C25-81A8-D1582F2411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6D4B0-589C-4BC1-A061-75E9C2C26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52190-C790-4A48-96C1-29AD879C8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4EF8D-9421-4611-9E12-36C48ADAC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CE065-CADB-44B3-BC11-38125C45B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21FEE-E5C0-47DB-8ABE-23F0AB2ED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67232-928B-4E53-A8BB-30A747456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B267-B451-42D7-B0EA-ADA6F37E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F8A12-60CF-40CB-80F8-0ACA962D7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F8FEA-D988-42BB-90DD-64C6C9AF9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8F2F5-18EC-4E29-9114-27535D7DE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28E664-DA8F-45D9-88BA-A9DF913352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1DAC25-F9B1-4BC9-8BFA-3D6FD63DA6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1EB2-3E78-47B2-A90D-D857A6C44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DD9E-B344-4830-9710-FA091EA52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BCDA-D2F4-451F-A60C-376EA421234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9DB6-5D09-4E2C-B635-6283C18CC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DD3E-99FF-4006-B206-4712D50BB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19F6-2743-429B-9868-9504E97E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1BD4-E053-4977-8BDC-8EB080D3DA6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293A-C63D-4154-9B88-E165C8782E79}"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309" name="Picture 7" descr="C:\Users\Victor\Desktop\vreausaaflulogo.png"/>
          <p:cNvPicPr/>
          <p:nvPr/>
        </p:nvPicPr>
        <p:blipFill>
          <a:blip r:embed="rId1"/>
          <a:stretch/>
        </p:blipFill>
        <p:spPr>
          <a:xfrm>
            <a:off x="2071800" y="420840"/>
            <a:ext cx="4572000" cy="45082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2" name="Rectangle 4"/>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Rectangle 5"/>
          <p:cNvSpPr/>
          <p:nvPr/>
        </p:nvSpPr>
        <p:spPr>
          <a:xfrm>
            <a:off x="755640" y="907920"/>
            <a:ext cx="7488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ilula contraceptiva actioneaza prin impiedicarea ovulatiei. In absenta ovulatiei, ovarele nu elibereaza nici un ovul. Nu va exista astfel nici un ovul gata de fecundare si, prin urmare, nici posibilitatea unei conceptii. Aceste efecte sunt datorate hormonilor feminini respectiv estrogenului si progestativului continuti de pilula.</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5" name="Rectangle 3"/>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Rectangle 4"/>
          <p:cNvSpPr/>
          <p:nvPr/>
        </p:nvSpPr>
        <p:spPr>
          <a:xfrm>
            <a:off x="755640" y="907920"/>
            <a:ext cx="748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Prin intermediul pilulei, mucusul din colul uterin va ramane vascos pe intreg parcursul lunii, spermatozoizii neputand astfel patrunde in uter. Mai mult, cu ajutorul pilulei se obtine o schimbare la nivelul mucoasei uterine, care ingreuneaza nidatia unui eventual ovul fecundat.</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0720" y="262080"/>
            <a:ext cx="8242560" cy="1407960"/>
          </a:xfrm>
          <a:prstGeom prst="rect">
            <a:avLst/>
          </a:prstGeom>
          <a:ln w="0">
            <a:noFill/>
          </a:ln>
        </p:spPr>
      </p:pic>
      <p:sp>
        <p:nvSpPr>
          <p:cNvPr id="328"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Hormonii folositi, </a:t>
            </a:r>
            <a:r>
              <a:rPr b="1" lang="en-US" sz="3000" spc="-1" strike="noStrike" u="sng">
                <a:solidFill>
                  <a:srgbClr val="ffffff"/>
                </a:solidFill>
                <a:uFillTx/>
                <a:latin typeface="Century Gothic"/>
              </a:rPr>
              <a:t>estrogen si progesteron</a:t>
            </a:r>
            <a:r>
              <a:rPr b="1" lang="en-US" sz="3000" spc="-1" strike="noStrike">
                <a:solidFill>
                  <a:srgbClr val="ffffff"/>
                </a:solidFill>
                <a:latin typeface="Century Gothic"/>
              </a:rPr>
              <a:t>, sunt doi hormoni feminini care administrati unei femei sanatoase, produc modificari insemnate la nivelul organelor genitale si a intregului organism, generand un lant de reactii secundare care provoaca in timp boli cronice grave, dar cel mai grav efect al lor este:</a:t>
            </a: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AVORTUL HORMONAL</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450720" y="262080"/>
            <a:ext cx="8242560" cy="1407960"/>
          </a:xfrm>
          <a:prstGeom prst="rect">
            <a:avLst/>
          </a:prstGeom>
          <a:ln w="0">
            <a:noFill/>
          </a:ln>
        </p:spPr>
      </p:pic>
      <p:sp>
        <p:nvSpPr>
          <p:cNvPr id="330" name=""/>
          <p:cNvSpPr txBox="1"/>
          <p:nvPr/>
        </p:nvSpPr>
        <p:spPr>
          <a:xfrm>
            <a:off x="457200" y="1882800"/>
            <a:ext cx="8229600" cy="4572000"/>
          </a:xfrm>
          <a:prstGeom prst="rect">
            <a:avLst/>
          </a:prstGeom>
          <a:noFill/>
          <a:ln w="0">
            <a:noFill/>
          </a:ln>
        </p:spPr>
        <p:txBody>
          <a:bodyPr anchor="t">
            <a:normAutofit/>
          </a:bodyPr>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contracep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bor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supra celorlalte organe</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a:p>
            <a:pPr marL="514440" indent="-514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icienta: 93%</a:t>
            </a:r>
            <a:endParaRPr b="0" lang="en-US" sz="4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locheaza secretia hormonilor din creier care induc ovulatia, ca urmare este anulata ovulat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hibitia ovulatiei se realizeaza cu cantitati mari de progesteron – care produce f multe reactii adver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odificarea mucusului uterin, prin ingrosarea acestu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mpiedicarea penetrarii ovul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Uscarea mucoasei uterine care hraneste copilu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ucoasa uterina nu mai secreta substantele necesare hranirii copilului</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cetinirea transportului oului prin inhibarea miscarilor trompelor – oul nu va ajunge la timp si se va usca, deci va fi avort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20840" y="96840"/>
            <a:ext cx="8242200" cy="134784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fontScale="98000"/>
          </a:bodyPr>
          <a:p>
            <a:pPr marL="438840" indent="-37476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supra aparatului cardio-vascular:</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bolilor venoase si arteriale</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50-75% din cazurile de tromboflebita profunda</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fectarea arterelor: creste riscul trombozelor arteriale cu 4,4% si al bolii Raynaud cu 1,7%</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mortalitatea prin infarct miocardic</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hipertensiunii arterial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22400"/>
            <a:ext cx="8242560" cy="1547640"/>
          </a:xfrm>
          <a:prstGeom prst="rect">
            <a:avLst/>
          </a:prstGeom>
          <a:ln w="0">
            <a:noFill/>
          </a:ln>
        </p:spPr>
      </p:pic>
      <p:sp>
        <p:nvSpPr>
          <p:cNvPr id="33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reste colesterolul, favorizand aparitua aterosclerozei (estrogen), de aceea s-a scazut mereu cantitatea de estrogen, folosindu-se mai mult progesteron – care are efect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toleranta la glucoza – favorizeaza aparitia diabetului clinic</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0720" y="122400"/>
            <a:ext cx="8242560" cy="1547640"/>
          </a:xfrm>
          <a:prstGeom prst="rect">
            <a:avLst/>
          </a:prstGeom>
          <a:ln w="0">
            <a:noFill/>
          </a:ln>
        </p:spPr>
      </p:pic>
      <p:sp>
        <p:nvSpPr>
          <p:cNvPr id="34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avorizeaza aparitia chisturilor</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hormonilor asupra ovarului este complex – apar tulburari de ciclu menstrual</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sterilizant – mai ales dupa 5 ani de consum, dar apare deseori si dupa 1 an, la fetele tiner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rogenul si progesteronul stimuleaza tiroida excesiv</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reste riscul sarcilor ectopice (in afara uterului)</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ureri de cap</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caderea libidoului</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epresie nervoasa</a:t>
            </a:r>
            <a:endParaRPr b="0" lang="en-US" sz="2800" spc="-1" strike="noStrike">
              <a:solidFill>
                <a:srgbClr val="ffffff"/>
              </a:solidFill>
              <a:latin typeface="Century Gothic"/>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nu a fost explicata. Unii autori considera ca ea apare atat datorita faptului ca femeia constientizeaza faptul ca este privata de dreptul ei de a fi mama, cat si datorita faptului ca C.O, produc nenumarate avorturi, fapt care desi nu este constientizat lasa urme adanci in psihicul femeii ca urmare a unui mare pac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ounded Rectangle 14" descr=""/>
          <p:cNvPicPr/>
          <p:nvPr/>
        </p:nvPicPr>
        <p:blipFill>
          <a:blip r:embed="rId1"/>
          <a:stretch/>
        </p:blipFill>
        <p:spPr>
          <a:xfrm>
            <a:off x="1951200" y="-347760"/>
            <a:ext cx="4582800" cy="2279880"/>
          </a:xfrm>
          <a:prstGeom prst="rect">
            <a:avLst/>
          </a:prstGeom>
          <a:ln w="0">
            <a:noFill/>
          </a:ln>
        </p:spPr>
      </p:pic>
      <p:sp>
        <p:nvSpPr>
          <p:cNvPr id="311"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czem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Urticari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dem alergic</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parului in exces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ranspiratii abundente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cne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pes si alte boli datorate interactiunii celor 2 hormo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262080"/>
            <a:ext cx="8242560" cy="1407960"/>
          </a:xfrm>
          <a:prstGeom prst="rect">
            <a:avLst/>
          </a:prstGeom>
          <a:ln w="0">
            <a:noFill/>
          </a:ln>
        </p:spPr>
      </p:pic>
      <p:sp>
        <p:nvSpPr>
          <p:cNvPr id="34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ezliprea de retina cu orbire, este o complicatie majora datorata problemelor de circulatie la nivelul ochi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apararea organismului la infectii, organismul reactioneaza impotriva unor structuri propri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elucreaza si stocheaza hormoni in exces, provocand diverse tulburari la nivelui 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 constata un efect toxic al estrogen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fectata bila, si cresterea colesterol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hepatitei cronice asimptomatic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umora benigna de fic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cancerului de san, de col uterin, de ficat si de pie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cancerului este favorizata de nasteri la varsta de peste 35 de ani, la cele cu avorturi multe sau la femeile care au consumat timp indelungat C.O. (8-10 a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e neinsemnat in comparatie cu efectele lor secundare.</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ezolva afectiuni precum sindromul pre-menstrual, dar tot literatura de specialitate ne arata ca dupa un timp mai indelungat, consumul C.O. favorizeaza aparitia chisturilor ovariene si tulburari de ciclu…se formeaza un cerc vicios si la un moment dat C.O. chiar intretin afectiunea pentru care s-au administr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95120" y="262080"/>
            <a:ext cx="8498160" cy="14079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Se adninistreaza in primele 72 de ore de la contactul sexua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ste ABORTIV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fecte secundare: varsaturi, dureri de cap, dureri de san, hemoragii</a:t>
            </a: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In realitate…</a:t>
            </a:r>
            <a:endParaRPr b="0" lang="en-US" sz="3000" spc="-1" strike="noStrike">
              <a:solidFill>
                <a:srgbClr val="ffffff"/>
              </a:solidFill>
              <a:latin typeface="Century Gothic"/>
            </a:endParaRPr>
          </a:p>
        </p:txBody>
      </p:sp>
      <p:pic>
        <p:nvPicPr>
          <p:cNvPr id="357" name="Picture 14" descr="C:\Users\Victor\Desktop\pilula.jpg"/>
          <p:cNvPicPr/>
          <p:nvPr/>
        </p:nvPicPr>
        <p:blipFill>
          <a:blip r:embed="rId2"/>
          <a:stretch/>
        </p:blipFill>
        <p:spPr>
          <a:xfrm>
            <a:off x="0" y="-29196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262080"/>
            <a:ext cx="84981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anchor="t">
            <a:normAutofit fontScale="91000"/>
          </a:bodyPr>
          <a:p>
            <a:pPr marL="407520" indent="-34812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Conceptia deja a avut loc, embrionul format se afla la nivelul trompei uterine si incepe migrarea spre uter, dar doza mare de hormoni (valabila pentru cateva luni, in mod normal) incetineste miscarile trompei uterine pentru a nu putea inainta copilul, se usuca glandele care hranesc copilul si acesta nu se mai poate hrani, daca totusi supravietuieste pana in uter aici nu se va mai putea nida, negasind conditiile prielnice – AVORT HORMONAL</a:t>
            </a:r>
            <a:endParaRPr b="0" lang="en-US" sz="3000" spc="-1" strike="noStrike">
              <a:solidFill>
                <a:srgbClr val="ffffff"/>
              </a:solidFill>
              <a:latin typeface="Century Gothic"/>
            </a:endParaRPr>
          </a:p>
        </p:txBody>
      </p:sp>
      <p:pic>
        <p:nvPicPr>
          <p:cNvPr id="360" name="Picture 4" descr="C:\Users\Victor\Desktop\in-realitate-copil.jpg"/>
          <p:cNvPicPr/>
          <p:nvPr/>
        </p:nvPicPr>
        <p:blipFill>
          <a:blip r:embed="rId2"/>
          <a:stretch/>
        </p:blipFill>
        <p:spPr>
          <a:xfrm>
            <a:off x="0" y="0"/>
            <a:ext cx="9358200" cy="694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407960"/>
          </a:xfrm>
          <a:prstGeom prst="rect">
            <a:avLst/>
          </a:prstGeom>
          <a:ln w="0">
            <a:noFill/>
          </a:ln>
        </p:spPr>
      </p:pic>
      <p:sp>
        <p:nvSpPr>
          <p:cNvPr id="36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mpiedica nidatia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fecte secundare multip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Un parinte compara acest sterilet cu “un sarpe care suge sangele copilul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450720" y="103320"/>
            <a:ext cx="8242560" cy="2828880"/>
          </a:xfrm>
          <a:prstGeom prst="rect">
            <a:avLst/>
          </a:prstGeom>
          <a:ln w="0">
            <a:noFill/>
          </a:ln>
        </p:spPr>
      </p:pic>
      <p:sp>
        <p:nvSpPr>
          <p:cNvPr id="364" name=""/>
          <p:cNvSpPr txBox="1"/>
          <p:nvPr/>
        </p:nvSpPr>
        <p:spPr>
          <a:xfrm>
            <a:off x="571680" y="3499920"/>
            <a:ext cx="8229600" cy="3357720"/>
          </a:xfrm>
          <a:prstGeom prst="rect">
            <a:avLst/>
          </a:prstGeom>
          <a:noFill/>
          <a:ln w="0">
            <a:noFill/>
          </a:ln>
        </p:spPr>
        <p:txBody>
          <a:bodyPr anchor="t">
            <a:normAutofit/>
          </a:bodyPr>
          <a:p>
            <a:pPr marL="447840" indent="-3826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Century Gothic"/>
              </a:rPr>
              <a:t>ABSTINENTA</a:t>
            </a:r>
            <a:endParaRPr b="0" lang="en-US" sz="10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7" dur="20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95120" y="262080"/>
            <a:ext cx="8498160" cy="1407960"/>
          </a:xfrm>
          <a:prstGeom prst="rect">
            <a:avLst/>
          </a:prstGeom>
          <a:ln w="0">
            <a:noFill/>
          </a:ln>
        </p:spPr>
      </p:pic>
      <p:pic>
        <p:nvPicPr>
          <p:cNvPr id="313" name="Content Placeholder 3" descr=""/>
          <p:cNvPicPr/>
          <p:nvPr/>
        </p:nvPicPr>
        <p:blipFill>
          <a:blip r:embed="rId2"/>
          <a:stretch/>
        </p:blipFill>
        <p:spPr>
          <a:xfrm>
            <a:off x="353880" y="1835280"/>
            <a:ext cx="844884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599840"/>
            <a:ext cx="8229600" cy="2328840"/>
          </a:xfrm>
          <a:prstGeom prst="rect">
            <a:avLst/>
          </a:prstGeom>
          <a:noFill/>
          <a:ln w="0">
            <a:noFill/>
          </a:ln>
        </p:spPr>
        <p:txBody>
          <a:bodyPr anchor="t">
            <a:normAutofit/>
          </a:bodyPr>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DRAGOSTE</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VIATA</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p:txBody>
      </p:sp>
      <p:pic>
        <p:nvPicPr>
          <p:cNvPr id="367" name="Picture 4" descr="C:\Users\roxi 20 ani\Desktop\Scortisoara\PRO-VITA\pozne\provita.JPG"/>
          <p:cNvPicPr/>
          <p:nvPr/>
        </p:nvPicPr>
        <p:blipFill>
          <a:blip r:embed="rId2"/>
          <a:stretch/>
        </p:blipFill>
        <p:spPr>
          <a:xfrm>
            <a:off x="1714680" y="4500720"/>
            <a:ext cx="5972040" cy="180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67"/>
                                        </p:tgtEl>
                                        <p:attrNameLst>
                                          <p:attrName>style.visibility</p:attrName>
                                        </p:attrNameLst>
                                      </p:cBhvr>
                                      <p:to>
                                        <p:strVal val="visible"/>
                                      </p:to>
                                    </p:set>
                                    <p:animEffect filter="fade" transition="in">
                                      <p:cBhvr additive="repl">
                                        <p:cTn id="14" dur="5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4" name=""/>
          <p:cNvSpPr txBox="1"/>
          <p:nvPr/>
        </p:nvSpPr>
        <p:spPr>
          <a:xfrm>
            <a:off x="837720" y="764640"/>
            <a:ext cx="8007480" cy="5256360"/>
          </a:xfrm>
          <a:prstGeom prst="rect">
            <a:avLst/>
          </a:prstGeom>
          <a:noFill/>
          <a:ln w="0">
            <a:noFill/>
          </a:ln>
        </p:spPr>
        <p:txBody>
          <a:bodyPr anchor="t">
            <a:normAutofit/>
          </a:bodyPr>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lgn="ct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entury Gothic"/>
              </a:rPr>
              <a:t>Ce </a:t>
            </a:r>
            <a:r>
              <a:rPr b="1" lang="en-US" sz="14400" spc="-1" strike="noStrike">
                <a:solidFill>
                  <a:srgbClr val="ffffff"/>
                </a:solidFill>
                <a:latin typeface="Century Gothic"/>
                <a:ea typeface="Times New Roman"/>
              </a:rPr>
              <a:t>ş</a:t>
            </a:r>
            <a:r>
              <a:rPr b="1" lang="en-US" sz="14400" spc="-1" strike="noStrike">
                <a:solidFill>
                  <a:srgbClr val="ffffff"/>
                </a:solidFill>
                <a:latin typeface="Century Gothic"/>
              </a:rPr>
              <a:t>tim?</a:t>
            </a:r>
            <a:endParaRPr b="0" lang="en-US" sz="14400" spc="-1" strike="noStrike">
              <a:solidFill>
                <a:srgbClr val="ffffff"/>
              </a:solidFill>
              <a:latin typeface="Century Gothic"/>
            </a:endParaRPr>
          </a:p>
          <a:p>
            <a:pPr marL="447840" indent="-382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au</a:t>
            </a:r>
            <a:endParaRPr b="0" lang="en-US" sz="18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e ni se spune?</a:t>
            </a:r>
            <a:endParaRPr b="0" lang="en-US" sz="28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5" name=""/>
          <p:cNvSpPr txBox="1"/>
          <p:nvPr/>
        </p:nvSpPr>
        <p:spPr>
          <a:xfrm>
            <a:off x="-252720" y="691920"/>
            <a:ext cx="9937800" cy="5438520"/>
          </a:xfrm>
          <a:prstGeom prst="rect">
            <a:avLst/>
          </a:prstGeom>
          <a:noFill/>
          <a:ln w="0">
            <a:noFill/>
          </a:ln>
        </p:spPr>
        <p:txBody>
          <a:bodyPr anchor="t">
            <a:normAutofit/>
          </a:bodyPr>
          <a:p>
            <a:pPr marL="447840" indent="-382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ffffff"/>
                </a:solidFill>
                <a:latin typeface="Century Gothic"/>
              </a:rPr>
              <a:t>Ce nu </a:t>
            </a:r>
            <a:r>
              <a:rPr b="1" lang="en-US" sz="12500" spc="-1" strike="noStrike">
                <a:solidFill>
                  <a:srgbClr val="ffffff"/>
                </a:solidFill>
                <a:latin typeface="Century Gothic"/>
                <a:ea typeface="Times New Roman"/>
              </a:rPr>
              <a:t>ş</a:t>
            </a:r>
            <a:r>
              <a:rPr b="1" lang="en-US" sz="12500" spc="-1" strike="noStrike">
                <a:solidFill>
                  <a:srgbClr val="ffffff"/>
                </a:solidFill>
                <a:latin typeface="Century Gothic"/>
              </a:rPr>
              <a:t>tim?</a:t>
            </a:r>
            <a:endParaRPr b="0" lang="en-US" sz="12500" spc="-1" strike="noStrike">
              <a:solidFill>
                <a:srgbClr val="ffffff"/>
              </a:solidFill>
              <a:latin typeface="Century Gothic"/>
            </a:endParaRPr>
          </a:p>
          <a:p>
            <a:pPr marL="447840" indent="-3826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entury Gothic"/>
              </a:rPr>
              <a:t>sau</a:t>
            </a:r>
            <a:endParaRPr b="0" lang="en-US" sz="19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Century Gothic"/>
              </a:rPr>
              <a:t>Ce nu vor sa </a:t>
            </a:r>
            <a:r>
              <a:rPr b="1" lang="en-US" sz="4100" spc="-1" strike="noStrike">
                <a:solidFill>
                  <a:srgbClr val="ffffff"/>
                </a:solidFill>
                <a:latin typeface="Century Gothic"/>
                <a:ea typeface="Times New Roman"/>
              </a:rPr>
              <a:t>ştim</a:t>
            </a:r>
            <a:r>
              <a:rPr b="1" lang="en-US" sz="4100" spc="-1" strike="noStrike">
                <a:solidFill>
                  <a:srgbClr val="ffffff"/>
                </a:solidFill>
                <a:latin typeface="Century Gothic"/>
              </a:rPr>
              <a:t>?</a:t>
            </a:r>
            <a:endParaRPr b="0" lang="en-US" sz="41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63520" y="333360"/>
            <a:ext cx="7386480" cy="6191280"/>
          </a:xfrm>
          <a:prstGeom prst="rect">
            <a:avLst/>
          </a:prstGeom>
          <a:noFill/>
          <a:ln w="0">
            <a:noFill/>
          </a:ln>
        </p:spPr>
        <p:txBody>
          <a:bodyPr anchor="t">
            <a:normAutofit/>
          </a:bodyPr>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p:txBody>
      </p:sp>
      <p:sp>
        <p:nvSpPr>
          <p:cNvPr id="317" name="Text Box 5"/>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etode “contraceptive”:</a:t>
            </a:r>
            <a:endParaRPr b="0" lang="en-US" sz="48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natur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de bariera (loc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ceptia  hormonala feminina – </a:t>
            </a:r>
            <a:r>
              <a:rPr b="1" lang="en-US" sz="3200" spc="-1" strike="noStrike">
                <a:solidFill>
                  <a:srgbClr val="ffffff"/>
                </a:solidFill>
                <a:latin typeface="Times New Roman"/>
              </a:rPr>
              <a:t>contraceptiv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i 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I.U. (steriletul)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nti-hormoni – RU 486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Vaccinuri – </a:t>
            </a:r>
            <a:r>
              <a:rPr b="1" lang="en-US" sz="3200" spc="-1" strike="noStrike">
                <a:solidFill>
                  <a:srgbClr val="ffffff"/>
                </a:solidFill>
                <a:latin typeface="Times New Roman"/>
              </a:rPr>
              <a:t>contraceptive/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Sterilizarea chirurgicala voluntara – </a:t>
            </a:r>
            <a:r>
              <a:rPr b="1" lang="en-US" sz="3200" spc="-1" strike="noStrike">
                <a:solidFill>
                  <a:srgbClr val="ffffff"/>
                </a:solidFill>
                <a:latin typeface="Times New Roman"/>
              </a:rPr>
              <a:t>contracepti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finitiva</a:t>
            </a: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58760" y="274680"/>
            <a:ext cx="8942400" cy="632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450720" y="274680"/>
            <a:ext cx="8302680" cy="63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0720" y="274680"/>
            <a:ext cx="8693280" cy="63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26:34Z</dcterms:modified>
  <cp:revision>57</cp:revision>
  <dc:subject/>
  <dc:title>Slide 1</dc:title>
</cp:coreProperties>
</file>