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EF80-FCF5-4F25-A452-3A7A2AB638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A021-7AFC-414B-AF97-989F86AAF83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cest efect, abortiv, este specificat şi pe prospectul de la pilulele anticoncepţionale. Dar nu este în nici un caz spus foarte clar, pur şi simplu pentru că nimeni nu ar vrea asta. Nu e un efect dorit. Iar pilulele anticoncepţionale sunt cele ce au dat cel mai mare profit pentru industria farmaceutică, acum doi sau trei ani... În ce măsură se produce, în ce măsură are loc, care e procentajul, nu s-a determinat, testarea ar implica cooperarea acelorlaşi firme care le produc. Cert e că se produc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0E4B-387A-47DA-A103-BC9C17C507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A3DC-F938-48F8-999B-C336A5FAD2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e înseamnă</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D139-6942-4631-BA54-F25D1CE5A3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2BDB-1ABF-499D-8ACB-38CF5441967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Explicaţie ce înseamnă 3-5%: dacă ai făcut sex de 20 de ori, e probabil să concepi un copi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oxinol este o substanţă ce apare în prezervative, ce produce iritaţii, posibil cancer. E folosit ca spermicid, e substanţă menită să distrugă celu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Gaura standard, sper că ştiţ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FE12-DB43-444D-9405-9C2B0796629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pentru început ce vorbisem la concepţie, cum anume apare bebe, pe unde se plimbă ovulul şi spermatozoizi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ce se întâmplă, la primele trei efecte. Le spui că hormonii sunt sintetizaţi artificial, şi că vei reveni asupra acestui aspec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Ideea cu care-i faza este că dacă primele două efecte sunt suficiente, ce e cu ultimul? Care e diferenţ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iferenţa este că înainte de concepţie e vorba de doi oameni, după concepţie e vorba de 3.</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acă primele două efecte nu au loc, adică nu este prevenită concepţia, atunci apare bebe. Care e cu totul altceva.</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895D-32FD-4AB1-9619-B42C8F415F2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C65D7-A5A5-41C2-A1D3-1D5524D48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B45F-5645-46B6-84E2-FB65B4C1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7D789-C8A1-4952-9B25-33BDFA7A3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577E3-CF23-4B09-84E0-C5A2A4BA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4BD3A-BD4A-4BB9-996E-09860ACF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3BA64-F820-4D80-A57A-322E42838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FB3BF-FEC8-4F71-A1C7-70BE7A3BF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39950-8688-4C0D-9268-4897E79D2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F807D-B127-4A7C-9732-00428772A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19E9-64AB-4115-9711-E56C6AFE8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9DB4D-8AD5-44E8-AAE0-B405A676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CF1D8-C6A6-4628-9801-D1247FA0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FF306-7F46-44EC-AD6D-9178FDFE2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98B2C-8F80-4706-8D1E-6796FE8F3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4D490-BD02-48AC-9A86-F0E521662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3037E-95E1-47DE-99CF-E66243F8D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78744-44F6-4382-BCA3-BF1E312BE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E72F18-B51C-4270-969D-CA5DA60A6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A6A08-AF99-4229-B7A8-506EC3AB8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B086E-C822-4748-8D8A-DB2B80BA8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A0CA7-0448-43D5-B836-BB7F36476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44F55-DECA-4C68-9B69-7001B99FE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BB1D-041F-4E13-95A3-A57DAFE6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1EA9B-5C79-4283-B0C7-B4545DA3B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1AA81-0CEE-4B7C-B240-47D0510DA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CF327-3CF4-462C-A607-05ED6591A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619DE-5294-4B17-89F6-55B52E5CC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733BD-3B44-4DFA-B4FF-1862189FC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34DF5C-3C83-4990-85A3-A3D3448B6B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790CA-3191-4C4A-AEFB-113CB5822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EFEFA-FDE7-41F9-97CD-1FFA513AA8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BD391-8DE4-4A3A-A434-BF7D094BA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2BDB7-207F-45B5-BE63-31140B2E0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A07C-7CE4-4770-8CE3-0ED3883B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9F27F-28CB-4F9E-9F13-9343FA14D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D9A29-EB7D-4BDF-82C6-B66B87253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C078C-1566-4665-8543-732E7535D7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5E67A-1DA1-4BA8-AB0E-C85FEE8AB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8603F-BC8C-4FA5-BF58-375760E3C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F5575-22B4-4157-955B-49A151941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6BF47-363B-4089-BC1D-11CCD3EC7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A9B82D-51EC-4E33-9521-24061906E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5E9308-EC91-4DE8-81A3-B3138A8327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A26B2-A345-406F-8C7A-A404E55BA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F3D3-A554-4AED-8A85-802F0EAC6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E147-6A74-48C8-9A95-54BB7C54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3477-2B2F-4819-951D-3FF6C4D8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0246-3BD5-4AA7-8117-2183AF77D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3331">
            <a:alpha val="8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5605-8EB2-4138-83C3-C5772BD56567}"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0ED1-91F7-46AE-A590-C46FF5B78D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CA16-6F79-444E-BA76-052F44C8C768}"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6931-9E1A-4B02-AA15-55EC61ABF6B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vreausaaflu.ro/" TargetMode="External"/><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185" name="Picture 7" descr="C:\Users\Victor\Desktop\vreausaaflulogo.png"/>
          <p:cNvPicPr/>
          <p:nvPr/>
        </p:nvPicPr>
        <p:blipFill>
          <a:blip r:embed="rId1"/>
          <a:stretch/>
        </p:blipFill>
        <p:spPr>
          <a:xfrm>
            <a:off x="3071880" y="2214720"/>
            <a:ext cx="2752560" cy="2714400"/>
          </a:xfrm>
          <a:prstGeom prst="rect">
            <a:avLst/>
          </a:prstGeom>
          <a:ln w="0">
            <a:noFill/>
          </a:ln>
        </p:spPr>
      </p:pic>
      <p:pic>
        <p:nvPicPr>
          <p:cNvPr id="186" name="Picture 13" descr="C:\Users\Victor\Desktop\provitalogo.png"/>
          <p:cNvPicPr/>
          <p:nvPr/>
        </p:nvPicPr>
        <p:blipFill>
          <a:blip r:embed="rId2"/>
          <a:stretch/>
        </p:blipFill>
        <p:spPr>
          <a:xfrm>
            <a:off x="2643120" y="0"/>
            <a:ext cx="3743280" cy="16383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este efectuat devreme, se tratează uşor</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se începe târziu rămân leziuni pe organele afectate şi pe sistemul nerv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3. Candidoza</a:t>
            </a:r>
            <a:endParaRPr b="0" lang="en-US" sz="5000" spc="-1" strike="noStrike">
              <a:solidFill>
                <a:srgbClr val="dbf5f9"/>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iuperci din genul Candida</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generale: diabet, obezitate, folosirea anticoncepţionalelor (măresc de 3 ori frecvenţă candidozelor  vaginale)</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locale</a:t>
            </a:r>
            <a:r>
              <a:rPr b="0" i="1" lang="ro-RO" sz="2600" spc="-1" strike="noStrike">
                <a:solidFill>
                  <a:srgbClr val="ffffff"/>
                </a:solidFill>
                <a:latin typeface="Calibri"/>
              </a:rPr>
              <a:t>: </a:t>
            </a:r>
            <a:r>
              <a:rPr b="0" lang="ro-RO" sz="2600" spc="-1" strike="noStrike">
                <a:solidFill>
                  <a:srgbClr val="ffffff"/>
                </a:solidFill>
                <a:latin typeface="Calibri"/>
              </a:rPr>
              <a:t>traumatisme mici repetate (explorări manuale, spălături vaginale etc.)</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La bărbaţi boala poate fi asimptomatică</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Manifestar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mâncarime foarte intensă şi permanentă</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mâncărime, urinări dese şi dureroase</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candidoza se poate extinde la nivelul întregului aparat urogenital producând infecţia prostatei</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infecţia urcă rar la uter şi trompe</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cade fertilitatea</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 </a:t>
            </a: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 psihic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atorită mâncărimii intense şi mai ales a frecventelor recidive, bolnavii sunt adesea obsedaţi de această infecţi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4. </a:t>
            </a:r>
            <a:r>
              <a:rPr b="1" lang="ro-RO" sz="5000" spc="-1" strike="noStrike">
                <a:solidFill>
                  <a:srgbClr val="dbf5f9"/>
                </a:solidFill>
                <a:latin typeface="Calibri"/>
              </a:rPr>
              <a:t>Clamidioza</a:t>
            </a:r>
            <a:endParaRPr b="0" lang="en-US" sz="5000" spc="-1" strike="noStrike">
              <a:solidFill>
                <a:srgbClr val="dbf5f9"/>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ea mai frecvent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sociată cu gonore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meroase cazuri asimptomatic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avorizată de anticoncepţional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isc de 4 ori mai mare la utilizarea steriletulu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curgeri purulente, dure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terilitate – cea mai întâlni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artrită, complicații cardiace, neurologice, pulmon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Risc mare de sarcină extrauterin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ază aprox. 10-20 de zile (dacă îţi dai seama că a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85480"/>
            <a:ext cx="8472600" cy="1562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dbf5f9"/>
                </a:solidFill>
                <a:latin typeface="Calibri"/>
              </a:rPr>
              <a:t>5. Infecția gonococică (Gonoreea/Blenoragia)</a:t>
            </a:r>
            <a:endParaRPr b="0" lang="en-US" sz="4500" spc="-1" strike="noStrike">
              <a:solidFill>
                <a:srgbClr val="dbf5f9"/>
              </a:solidFill>
              <a:latin typeface="Calibri"/>
            </a:endParaRPr>
          </a:p>
        </p:txBody>
      </p:sp>
      <p:sp>
        <p:nvSpPr>
          <p:cNvPr id="213" name=""/>
          <p:cNvSpPr txBox="1"/>
          <p:nvPr/>
        </p:nvSpPr>
        <p:spPr>
          <a:xfrm>
            <a:off x="428760" y="1928880"/>
            <a:ext cx="8229600" cy="4643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 dar nu numa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e asociază cu chlamydi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dureri de gâ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 uretrită acută (scurgeri, dureri, sângeră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infecţia colului uterin, trece deseori neobserva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fertilitate (des)</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risc de sarcină ectopic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tă din timp se vindecă integral</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500" spc="-1" strike="noStrike">
                <a:solidFill>
                  <a:srgbClr val="dbf5f9"/>
                </a:solidFill>
                <a:latin typeface="Calibri"/>
              </a:rPr>
              <a:t>6. HPV (papillomavirus – negi genitali)</a:t>
            </a:r>
            <a:endParaRPr b="0" lang="en-US" sz="4500" spc="-1" strike="noStrike">
              <a:solidFill>
                <a:srgbClr val="dbf5f9"/>
              </a:solidFill>
              <a:latin typeface="Calibri"/>
            </a:endParaRPr>
          </a:p>
        </p:txBody>
      </p:sp>
      <p:sp>
        <p:nvSpPr>
          <p:cNvPr id="217" name=""/>
          <p:cNvSpPr txBox="1"/>
          <p:nvPr/>
        </p:nvSpPr>
        <p:spPr>
          <a:xfrm>
            <a:off x="457200" y="1934640"/>
            <a:ext cx="8229600" cy="4637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Excrescenţe de culoare roşie ori gri</a:t>
            </a:r>
            <a:endParaRPr b="0" lang="en-US" sz="24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e ori mâncărimi</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RIN ATINGEREA ZONEI INFECTATE</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ate evolua în celule precanceroase, apoi canceroase</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sibilă legătură cu cancerul de col uterin</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7. Herpes genital (simplex)</a:t>
            </a:r>
            <a:endParaRPr b="0" lang="en-US" sz="5000" spc="-1" strike="noStrike">
              <a:solidFill>
                <a:srgbClr val="dbf5f9"/>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oarte răspândi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iţial, vezicule dureroase, la 3-4 săptămâni de la infect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i de cap, dureri de spate, stare generală de rău</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Veziculele sunt puternic infectate, transmiterea se face prin contact cu el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Rounded Rectangle 14" descr=""/>
          <p:cNvPicPr/>
          <p:nvPr/>
        </p:nvPicPr>
        <p:blipFill>
          <a:blip r:embed="rId1"/>
          <a:stretch/>
        </p:blipFill>
        <p:spPr>
          <a:xfrm>
            <a:off x="1951200" y="-347760"/>
            <a:ext cx="4582800" cy="2279880"/>
          </a:xfrm>
          <a:prstGeom prst="rect">
            <a:avLst/>
          </a:prstGeom>
          <a:ln w="0">
            <a:noFill/>
          </a:ln>
        </p:spPr>
      </p:pic>
      <p:sp>
        <p:nvSpPr>
          <p:cNvPr id="188"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8. Tricomoniaza</a:t>
            </a:r>
            <a:endParaRPr b="0" lang="en-US" sz="5000" spc="-1" strike="noStrike">
              <a:solidFill>
                <a:srgbClr val="dbf5f9"/>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ăspândire de aprox. 30% la femei, 25% la bărbaţ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prin contac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în general fără simptome)- infecţia uretre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scurgeri cu miros foarte neplăcu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este asociată cu vaginita</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reşte riscul de infertilitate</a:t>
            </a: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 antibiotic</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Users\roxi 20 ani\Desktop\Scortisoara\PRO-VITA\pozne\provita.JPG"/>
          <p:cNvPicPr/>
          <p:nvPr/>
        </p:nvPicPr>
        <p:blipFill>
          <a:blip r:embed="rId1"/>
          <a:stretch/>
        </p:blipFill>
        <p:spPr>
          <a:xfrm>
            <a:off x="1500120" y="285840"/>
            <a:ext cx="5972400" cy="1800000"/>
          </a:xfrm>
          <a:prstGeom prst="rect">
            <a:avLst/>
          </a:prstGeom>
          <a:ln w="0">
            <a:noFill/>
          </a:ln>
        </p:spPr>
      </p:pic>
      <p:sp>
        <p:nvSpPr>
          <p:cNvPr id="227" name=""/>
          <p:cNvSpPr txBox="1"/>
          <p:nvPr/>
        </p:nvSpPr>
        <p:spPr>
          <a:xfrm>
            <a:off x="50004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u="sng">
                <a:solidFill>
                  <a:srgbClr val="e2d700"/>
                </a:solidFill>
                <a:uFillTx/>
                <a:latin typeface="Calibri"/>
                <a:hlinkClick r:id="rId2"/>
              </a:rPr>
              <a:t>www.vreausaaflu.ro</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5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73080" y="701640"/>
            <a:ext cx="8699400" cy="1150920"/>
          </a:xfrm>
          <a:prstGeom prst="rect">
            <a:avLst/>
          </a:prstGeom>
          <a:ln w="0">
            <a:noFill/>
          </a:ln>
        </p:spPr>
      </p:pic>
      <p:pic>
        <p:nvPicPr>
          <p:cNvPr id="190" name="Content Placeholder 3" descr=""/>
          <p:cNvPicPr/>
          <p:nvPr/>
        </p:nvPicPr>
        <p:blipFill>
          <a:blip r:embed="rId2"/>
          <a:stretch/>
        </p:blipFill>
        <p:spPr>
          <a:xfrm>
            <a:off x="-103320" y="3260880"/>
            <a:ext cx="6553440" cy="193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500040" y="1071720"/>
            <a:ext cx="8229600" cy="4565520"/>
          </a:xfrm>
          <a:prstGeom prst="rect">
            <a:avLst/>
          </a:prstGeom>
          <a:noFill/>
          <a:ln w="0">
            <a:noFill/>
          </a:ln>
        </p:spPr>
        <p:txBody>
          <a:bodyPr anchor="t">
            <a:normAutofit fontScale="86000"/>
          </a:bodyPr>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IV</a:t>
            </a:r>
            <a:r>
              <a:rPr b="1" lang="ro-RO" sz="3600" spc="-1" strike="noStrike">
                <a:solidFill>
                  <a:srgbClr val="f2f2f2"/>
                </a:solidFill>
                <a:latin typeface="Calibri"/>
              </a:rPr>
              <a:t> </a:t>
            </a:r>
            <a:r>
              <a:rPr b="1" lang="en-US" sz="3600" spc="-1" strike="noStrike">
                <a:solidFill>
                  <a:srgbClr val="f2f2f2"/>
                </a:solidFill>
                <a:latin typeface="Calibri"/>
              </a:rPr>
              <a:t>-</a:t>
            </a:r>
            <a:r>
              <a:rPr b="1" lang="ro-RO" sz="3600" spc="-1" strike="noStrike">
                <a:solidFill>
                  <a:srgbClr val="f2f2f2"/>
                </a:solidFill>
                <a:latin typeface="Calibri"/>
              </a:rPr>
              <a:t> </a:t>
            </a:r>
            <a:r>
              <a:rPr b="1" lang="en-US" sz="3600" spc="-1" strike="noStrike">
                <a:solidFill>
                  <a:srgbClr val="f2f2f2"/>
                </a:solidFill>
                <a:latin typeface="Calibri"/>
              </a:rPr>
              <a:t>SID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SIFIL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ANDIDOZ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HLAMYDIA TRACHOMAT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GONOREE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HPV</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ERPES SIMPLEX</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TRICOMONIAZA</a:t>
            </a:r>
            <a:endParaRPr b="0" lang="en-US" sz="3600" spc="-1" strike="noStrike">
              <a:solidFill>
                <a:srgbClr val="ffffff"/>
              </a:solidFill>
              <a:latin typeface="Calibri"/>
            </a:endParaRPr>
          </a:p>
          <a:p>
            <a:pPr marL="523800" indent="-52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1. HIV – SIDA </a:t>
            </a:r>
            <a:endParaRPr b="0" lang="en-US" sz="5000" spc="-1" strike="noStrike">
              <a:solidFill>
                <a:srgbClr val="dbf5f9"/>
              </a:solidFill>
              <a:latin typeface="Calibri"/>
            </a:endParaRPr>
          </a:p>
        </p:txBody>
      </p:sp>
      <p:sp>
        <p:nvSpPr>
          <p:cNvPr id="193" name=""/>
          <p:cNvSpPr txBox="1"/>
          <p:nvPr/>
        </p:nvSpPr>
        <p:spPr>
          <a:xfrm>
            <a:off x="428760" y="19998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IDA (Sindromul Imunodeficienţei Dobândite) este un sindrom caracterizat prin infecţii şi tumori, secundare imunodepresiei celulare severe, produsă de virusul imunodeficienţei umane (HIV)</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cest virus distruge definitiv, într-un anumit interval de timp, imunitatea organismului, lăsându-l fără apărare faţă de infecţii şi tumori, ce îi vor provoca moart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285840"/>
            <a:ext cx="8229600" cy="65721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Calibri"/>
              </a:rPr>
              <a:t>Evoluţia infecţiei H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infecţia cu HIV este în relaţie de proporţionalitate cu cantitatea de virus patrunsă în organism şi cu receptivitatea gazdei (35% - prezervativ)</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Fereastra de seronegativitat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e la momentul infectant şi până la seroconversie (când în sângele pacientului se poate depista HIV-ul) există o perioada de la 2 la 6 luni de seronegativitate, purtătorul fiind infectat cu HIV şi infectant (poate infecta deja pe alţii), dar seronegat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eroconversia (infecţia HIV depistată în sâng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neori apare o “stare gripală” cu febră, dureri musculare şi articulare, somnolenţă, timp de 3-14 zil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Perioada de latenţă (fără simptom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rmează o perioadă variabilă ca durată, în care subiectul infectat şi seropozitiv nu prezintă niciun semn de boală</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erioadă poate dura de la câteva luni de zile (sugari) la ani de zile, uneori chiar 10-15 ani sau mai mulțiBoala SIDA:</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pariția și instalarea bolii SIDA constă în prăbuşirea imunităţii organismului</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răbuşire a imunităţii determină apariția de infecţii şi tumori canceroas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pic>
        <p:nvPicPr>
          <p:cNvPr id="197" name="Picture 4" descr=""/>
          <p:cNvPicPr/>
          <p:nvPr/>
        </p:nvPicPr>
        <p:blipFill>
          <a:blip r:embed="rId1"/>
          <a:srcRect l="22461" t="21878" r="12502" b="7814"/>
          <a:stretch/>
        </p:blipFill>
        <p:spPr>
          <a:xfrm>
            <a:off x="428760" y="928800"/>
            <a:ext cx="792936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dbf5f9"/>
                </a:solidFill>
                <a:latin typeface="Calibri"/>
              </a:rPr>
              <a:t>2. Sifilisul</a:t>
            </a:r>
            <a:endParaRPr b="0" lang="en-US" sz="5000" spc="-1" strike="noStrike">
              <a:solidFill>
                <a:srgbClr val="dbf5f9"/>
              </a:solidFill>
              <a:latin typeface="Calibri"/>
            </a:endParaRPr>
          </a:p>
        </p:txBody>
      </p:sp>
      <p:sp>
        <p:nvSpPr>
          <p:cNvPr id="199" name=""/>
          <p:cNvSpPr txBox="1"/>
          <p:nvPr/>
        </p:nvSpPr>
        <p:spPr>
          <a:xfrm>
            <a:off x="457200" y="1571760"/>
            <a:ext cx="8229600" cy="47527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Transmitere directă pe cale sexuală, prin contactul cu fluide biologice infectate (sperma, secretii vaginale) sau prin contact direct cu ulceratiile provocate de infectie – 30-50%</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Foarte contagios</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Congenital (placentar)</a:t>
            </a:r>
            <a:endParaRPr b="0" lang="en-US" sz="2800" spc="-1" strike="noStrike">
              <a:solidFill>
                <a:srgbClr val="ffffff"/>
              </a:solidFill>
              <a:latin typeface="Calibri"/>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Ulceraţii, zone purulente, în general în zona genital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Toate organele corpului afectate</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osibil să apară şi în zone nongenitale - zona anală sau zona bucală (buze, limba), în gât (faringe). Mult mai rar sancrul poate apărea şi în alte zone precum narile, degetele sau faţa</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imptomele pot trece şi netratate, </a:t>
            </a:r>
            <a:endParaRPr b="0" lang="en-US" sz="2400" spc="-1" strike="noStrike">
              <a:solidFill>
                <a:srgbClr val="ffffff"/>
              </a:solidFill>
              <a:latin typeface="Calibri"/>
            </a:endParaRPr>
          </a:p>
          <a:p>
            <a:pPr lvl="1" marL="639720" indent="-24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alibri"/>
              </a:rPr>
              <a:t> </a:t>
            </a:r>
            <a:r>
              <a:rPr b="0" lang="ro-RO" sz="3200" spc="-1" strike="noStrike">
                <a:solidFill>
                  <a:srgbClr val="ffffff"/>
                </a:solidFill>
                <a:latin typeface="Calibri"/>
              </a:rPr>
              <a:t>INFECŢIA RĂMÂN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57:12Z</dcterms:modified>
  <cp:revision>238</cp:revision>
  <dc:subject/>
  <dc:title>Slide 1</dc:title>
</cp:coreProperties>
</file>