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BC1E-8447-4E33-9461-B8DDFCBD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57C-D132-4CD4-A5DC-080B79005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9717-F0ED-44EA-ABCD-10868308D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A2E0-BD69-46E1-ABD3-D5807A0176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A5A-5786-4292-B559-6738CD161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E99-BD31-4D2F-81A9-6749EE92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ADB-C124-413C-BD65-84382C5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091-9C2E-461D-A816-BBBD4795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F10-DB12-44B3-B487-5E3F18CB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53B-8C99-4D52-8017-FE666B46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C76-FB25-40A1-8E38-D4ACDA9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17B-4ADC-41AE-A968-0E54BEB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52E8-0612-4E85-A3F8-9B794A10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44D8-60EE-4A2C-A449-4B277DA3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81F-A4C6-49F6-A826-727B2CD6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50B6-7B8A-4F58-A24F-5EE162C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821-FC2C-4337-8C7B-242D4DB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ED69-6F1F-45D0-90C7-D740B11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F794-1F31-4513-9013-C7A5ED8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146A-5179-4AEC-95CB-C100A0A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ACCA-7E8B-4A72-8ECF-356ACAE8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7AB0-E898-45FE-A7D9-E8A0BE8E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E3-A31F-4459-9ABB-76CD4CF5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7AD-5BB4-45C7-86AD-550D9290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33B-93CC-4221-B729-CA48996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671-9B46-4691-AE87-929C5CC1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675-C9F0-4020-9C01-1FDA25D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915-2E44-433C-AF95-4E99A73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710-B6CA-4F90-BEDA-8F7C077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EA9-CB81-4AD6-BB7D-4D39CE5C1790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024-98D7-40EC-9E9C-9508083F31E5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reausaaflu.ro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Users\Victor\Desktop\vreausaaflulogo.png"/>
          <p:cNvPicPr/>
          <p:nvPr/>
        </p:nvPicPr>
        <p:blipFill>
          <a:blip r:embed="rId1"/>
          <a:stretch/>
        </p:blipFill>
        <p:spPr>
          <a:xfrm>
            <a:off x="1403280" y="233280"/>
            <a:ext cx="6140520" cy="60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712800" y="1924200"/>
            <a:ext cx="591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ubirea si sexualitatea stau la baza famili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xualitate bolnav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milie boln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1528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569880" y="1911240"/>
            <a:ext cx="842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ierderea simțului pudorii, unul din elementele fundamentale ale moralităț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stovește forțele fizice și intelectu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heltuirea de averi (ex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oate fi atins de boli grele, contagioase și mort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Bătrânețe prematur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569880" y="1793880"/>
            <a:ext cx="842004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duce obișnuițe train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aralizează orice avânt spre desăvârș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rupul este acela care comandă tiranic, iar voința devine sclav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pradimensionarea imaginarului, a irealului, a fantasmagoric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tunecă min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mpietrește in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depărtează pe om de Dumnez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07800" y="2077920"/>
            <a:ext cx="8836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devine egoist și obse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nu vede persoana pe care o dorește așa cum este, ci așa cum o vrea sau îi trebuie 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ersoana celuilalt devine o proiecție a dorințelor și poftelor sale</a:t>
            </a:r>
            <a:br>
              <a:rPr sz="3200"/>
            </a:b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ersoana celuilalt este iubită cu o iubire falsă, și este redusă la aparența ei exterioară</a:t>
            </a:r>
            <a:br>
              <a:rPr sz="3200"/>
            </a:b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nu reușește să pătrundă în miezul ființei iubite ci se rezumă doar la înveliș (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800" y="2077920"/>
            <a:ext cx="88362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Cunoaște o tensiune și o teamă de necunoscut. Teama de a nu pierde lucrul iubit sau de a nu fi abandonat de acesta, atâta timp cât așa îi este alimentată dependenț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rupul îl subjugă, simțurile îl stăpânes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ste incapabil să iubească, să se jertfească pentru celăl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73080" y="506520"/>
            <a:ext cx="8699400" cy="1157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511200" y="1841400"/>
            <a:ext cx="844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rugăciune stăruito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smer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AZA TRUPULUI ȘI A SIMȚURI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mărturis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ÎNFRÂNAREA! Postul și munca fiz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AZA MINȚII- gândurile și privi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Gândul la eternitate! Ce iubim la fetele frumo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Iubirea sufletului mai mult decât a trup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414360" y="1449360"/>
            <a:ext cx="8350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provitabucuresti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vreausaaflu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Mail &amp; id Messeng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xana - vreausaaflu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@yahoo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3" descr="C:\Users\Victor\Desktop\provitalogo.png"/>
          <p:cNvPicPr/>
          <p:nvPr/>
        </p:nvPicPr>
        <p:blipFill>
          <a:blip r:embed="rId2"/>
          <a:srcRect l="0" t="0" r="337" b="0"/>
          <a:stretch/>
        </p:blipFill>
        <p:spPr>
          <a:xfrm>
            <a:off x="2655720" y="0"/>
            <a:ext cx="37306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ounded Rectangle 14" descr=""/>
          <p:cNvPicPr/>
          <p:nvPr/>
        </p:nvPicPr>
        <p:blipFill>
          <a:blip r:embed="rId1"/>
          <a:stretch/>
        </p:blipFill>
        <p:spPr>
          <a:xfrm>
            <a:off x="1951200" y="-347760"/>
            <a:ext cx="4582800" cy="2279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996840" y="1484280"/>
            <a:ext cx="776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pre turma mass-med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goste si sexuali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d incepe vi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 este avort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evarul despre contracept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pre B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iagram 4" descr=""/>
          <p:cNvPicPr/>
          <p:nvPr/>
        </p:nvPicPr>
        <p:blipFill>
          <a:blip r:embed="rId1"/>
          <a:stretch/>
        </p:blipFill>
        <p:spPr>
          <a:xfrm>
            <a:off x="822240" y="695160"/>
            <a:ext cx="76885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dbf5f9"/>
                </a:solidFill>
                <a:latin typeface="Calibri"/>
              </a:rPr>
              <a:t>Mass-medi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Promovează o cultură de masă, diferită de cultura elevată, nobilă (școala, Biserica, famil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Promovează valori grosiere: erotismul, egoismul, frumusețea fizică masculină și feminină, violența, scandalul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CEL MAI PUTERNIC IMPACT ASUPRA TINERILOR ÎL ARE TELEVIZIUNEA. mimesi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Larga mediatizare împotriva moralei creștine – pentru a câștiga adepț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Vidul spirtual din sufletele tinerilor  (secte satanice, sinuciderea, etc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VALORI ETERNE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nstantia"/>
              </a:rPr>
              <a:t>Iubirea (egoism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nstantia"/>
              </a:rPr>
              <a:t>Ascultarea (rebelism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285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0"/>
            </a:br>
            <a:br>
              <a:rPr sz="9000"/>
            </a:br>
            <a:r>
              <a:rPr b="0" lang="en-US" sz="9000" spc="-1" strike="noStrike">
                <a:solidFill>
                  <a:srgbClr val="dbf5f9"/>
                </a:solidFill>
                <a:latin typeface="Calibri"/>
              </a:rPr>
              <a:t>Existenta inlocuieste esenta!</a:t>
            </a:r>
            <a:endParaRPr b="0" lang="en-US" sz="9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0720" y="1530360"/>
            <a:ext cx="83217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50800" y="2928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2400" spc="-1" strike="noStrike">
                <a:solidFill>
                  <a:srgbClr val="dbf5f9"/>
                </a:solidFill>
                <a:latin typeface="Arial"/>
              </a:rPr>
              <a:t>...când se trage de coloană?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122400" y="701640"/>
            <a:ext cx="89787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2:08:25Z</dcterms:created>
  <dc:creator>Dream</dc:creator>
  <dc:description/>
  <dc:language>en-US</dc:language>
  <cp:lastModifiedBy>roxi 20 ani</cp:lastModifiedBy>
  <dcterms:modified xsi:type="dcterms:W3CDTF">2009-05-04T16:48:20Z</dcterms:modified>
  <cp:revision>513</cp:revision>
  <dc:subject/>
  <dc:title>Slide 1</dc:title>
</cp:coreProperties>
</file>