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A475-098C-45FE-8E47-541ECA14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CEA-A0EE-43FB-A697-7ABDBE279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00B1-4047-4B0B-B4FC-99EB65963F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89A4-4E6F-461B-A368-185A1AF829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88D3-0328-499A-8A94-9B7A1FE87F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26D-F6F0-48F6-94EB-5A392C25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C97-6466-4B8D-9168-6F2CAFB4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7D7-CEDD-40F0-AF29-8D79DA10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938-A11B-4134-8460-E613F2F8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6D43-68C0-48CA-A03F-E75425F2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978E-A1F7-4960-88A0-61959300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3F6E-917D-4F9B-8166-8B1BEBB6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8AB9-1A10-4BA6-8B4C-8129203B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7E8D-7F49-4343-A826-670C723E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B6F2-FB0D-4935-8369-E46295A8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AD2E-9EA5-4C8A-904B-B3366A3B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A9E-BD46-4429-8638-269D22F9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C333-B873-4EFE-9C94-22EDE62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2959-33C5-4BB1-ADC1-4CF34A7A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AFEB-7A31-40A9-8470-A0991C83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9163-7279-44EC-832F-BB175376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46AD-3766-4DBB-B91A-512A640B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D2E-A5CD-4D7E-B036-086F7A1C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D1B-A696-46A2-A4F6-F98F3857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8D6-EAF7-4518-9280-54E4ADDB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321-7443-4BB1-AAEB-02F3EA3F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96E-414B-450D-8EE2-0D9B648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94A-4808-4C5D-AFDA-984AF6D5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E52-8777-4D95-916A-AAF2A91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1BC4-6DF2-49E7-B4E1-6CCF14AB794B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EBE4-D3A3-42E6-8007-FCD27A354A63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reausaaflu.ro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Users\Victor\Desktop\vreausaaflulogo.png"/>
          <p:cNvPicPr/>
          <p:nvPr/>
        </p:nvPicPr>
        <p:blipFill>
          <a:blip r:embed="rId1"/>
          <a:stretch/>
        </p:blipFill>
        <p:spPr>
          <a:xfrm>
            <a:off x="1403280" y="233280"/>
            <a:ext cx="6140520" cy="605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712800" y="1924200"/>
            <a:ext cx="591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ubirea si sexualitatea stau la baza famili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xualitate bolnav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milie boln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31528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569880" y="1911240"/>
            <a:ext cx="842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ierderea simțului pudorii, unul din elementele fundamentale ale moralităț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stovește forțele fizice și intelectu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heltuirea de averi (ex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oate fi atins de boli grele, contagioase și mort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Bătrânețe prematur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569880" y="1793880"/>
            <a:ext cx="842004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duce obișnuițe train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aralizează orice avânt spre desăvârș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rupul este acela care comandă tiranic, iar voința devine sclav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pradimensionarea imaginarului, a irealului, a fantasmagoric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ntunecă min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mpietrește in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ndepărtează pe om de Dumneze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315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307800" y="2077920"/>
            <a:ext cx="8836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devine egoist și obsed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nu vede persoana pe care o dorește așa cum este, ci așa cum o vrea sau îi trebuie 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ersoana celuilalt devine o proiecție a dorințelor și poftelor sale</a:t>
            </a:r>
            <a:br>
              <a:rPr sz="3200"/>
            </a:b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ersoana celuilalt este iubită cu o iubire falsă, și este redusă la aparența ei exterioară</a:t>
            </a:r>
            <a:br>
              <a:rPr sz="3200"/>
            </a:b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nu reușește să pătrundă în miezul ființei iubite ci se rezumă doar la înveliș (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7800" y="2077920"/>
            <a:ext cx="88362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Cunoaște o tensiune și o teamă de necunoscut. Teama de a nu pierde lucrul iubit sau de a nu fi abandonat de acesta, atâta timp cât așa îi este alimentată dependenț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rupul îl subjugă, simțurile îl stăpânes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ste incapabil să iubească, să se jertfească pentru celăl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73080" y="506520"/>
            <a:ext cx="8699400" cy="1157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511200" y="1841400"/>
            <a:ext cx="844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rugăciune stăruito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smer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AZA TRUPULUI ȘI A SIMȚURI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mărturis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ÎNFRÂNAREA! Postul și munca fizi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AZA MINȚII- gândurile și privi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Gândul la eternitate! Ce iubim la fetele frumoa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Iubirea sufletului mai mult decât a trup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414360" y="1449360"/>
            <a:ext cx="8350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provitabucuresti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32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www.vreausaaflu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Mail &amp; id Messeng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xana - vreausaaflu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@yahoo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3" descr="C:\Users\Victor\Desktop\provitalogo.png"/>
          <p:cNvPicPr/>
          <p:nvPr/>
        </p:nvPicPr>
        <p:blipFill>
          <a:blip r:embed="rId2"/>
          <a:srcRect l="0" t="0" r="337" b="0"/>
          <a:stretch/>
        </p:blipFill>
        <p:spPr>
          <a:xfrm>
            <a:off x="2655720" y="0"/>
            <a:ext cx="37306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ounded Rectangle 14" descr=""/>
          <p:cNvPicPr/>
          <p:nvPr/>
        </p:nvPicPr>
        <p:blipFill>
          <a:blip r:embed="rId1"/>
          <a:stretch/>
        </p:blipFill>
        <p:spPr>
          <a:xfrm>
            <a:off x="1951200" y="-347760"/>
            <a:ext cx="4582800" cy="2279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996840" y="1484280"/>
            <a:ext cx="7767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pre turma mass-med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agoste si sexuali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nd incepe vi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e este avortu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evarul despre contracept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pre B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mil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iagram 4" descr=""/>
          <p:cNvPicPr/>
          <p:nvPr/>
        </p:nvPicPr>
        <p:blipFill>
          <a:blip r:embed="rId1"/>
          <a:stretch/>
        </p:blipFill>
        <p:spPr>
          <a:xfrm>
            <a:off x="822240" y="695160"/>
            <a:ext cx="76885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dbf5f9"/>
                </a:solidFill>
                <a:latin typeface="Calibri"/>
              </a:rPr>
              <a:t>Mass-media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Promovează o cultură de masă, diferită de cultura elevată, nobilă (școala, Biserica, famil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Promovează valori grosiere: erotismul, egoismul, frumusețea fizică masculină și feminină, violența, scandalul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CEL MAI PUTERNIC IMPACT ASUPRA TINERILOR ÎL ARE TELEVIZIUNEA. mimesi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Larga mediatizare împotriva moralei creștine – pentru a câștiga adepț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Vidul spirtual din sufletele tinerilor  (secte satanice, sinuciderea, etc.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VALORI ETERNE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nstantia"/>
              </a:rPr>
              <a:t>Iubirea (egoism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nstantia"/>
              </a:rPr>
              <a:t>Ascultarea (rebelism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285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0"/>
            </a:br>
            <a:br>
              <a:rPr sz="9000"/>
            </a:br>
            <a:r>
              <a:rPr b="0" lang="en-US" sz="9000" spc="-1" strike="noStrike">
                <a:solidFill>
                  <a:srgbClr val="dbf5f9"/>
                </a:solidFill>
                <a:latin typeface="Calibri"/>
              </a:rPr>
              <a:t>Existenta inlocuieste esenta!</a:t>
            </a:r>
            <a:endParaRPr b="0" lang="en-US" sz="9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0720" y="1530360"/>
            <a:ext cx="832176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50800" y="2928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2400" spc="-1" strike="noStrike">
                <a:solidFill>
                  <a:srgbClr val="dbf5f9"/>
                </a:solidFill>
                <a:latin typeface="Arial"/>
              </a:rPr>
              <a:t>...când se trage de coloană?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122400" y="701640"/>
            <a:ext cx="89787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2:08:25Z</dcterms:created>
  <dc:creator>Dream</dc:creator>
  <dc:description/>
  <dc:language>en-US</dc:language>
  <cp:lastModifiedBy>roxi 20 ani</cp:lastModifiedBy>
  <dcterms:modified xsi:type="dcterms:W3CDTF">2009-05-04T16:48:20Z</dcterms:modified>
  <cp:revision>513</cp:revision>
  <dc:subject/>
  <dc:title>Slide 1</dc:title>
</cp:coreProperties>
</file>