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3E4E-3787-4CEE-9BB7-9234C80D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89D6-DFC7-4F3C-A284-5DDFD618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C834-0295-4094-81EB-F6468651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80FC-8ED7-4284-A920-93A04411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75A5-CBC2-4ABA-89C5-A79DAA18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5F50-1573-4E04-8580-5874C2D0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83EC-A15D-4222-8149-8EE1FB28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C338-2D9C-4551-A7CD-61CFB20A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2660-8706-4F28-9AFF-2B89823E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942C-F5D1-46A2-85B8-644636BE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CD1C-C541-4CBB-8DA4-9327D10D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5659-4265-4E3A-B9E1-072816DE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D820-87CC-4AC7-8AA7-F40C5BA33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E:/clipuri/ALTEX-nebunul.mpg" TargetMode="External"/><Relationship Id="rId2" Type="http://schemas.openxmlformats.org/officeDocument/2006/relationships/hyperlink" Target="file:///E:/clipuri/ALTEX-nebunul.mpg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1773360"/>
            <a:ext cx="81360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OLILE   CU  TRANSMITER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EXUAL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0360" y="274320"/>
            <a:ext cx="39592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 u="sng">
                <a:solidFill>
                  <a:srgbClr val="000000"/>
                </a:solidFill>
                <a:uFillTx/>
                <a:latin typeface="Arial"/>
              </a:rPr>
              <a:t>Chlamy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e foarte răspândită printre tineri. Aceasta boală afectează aproximativ 1/3 dintre persoanele active sexual.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%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e persoane nu au nici cea mai mică idee că ar putea avea această boală pentru că 3 din 4 persoa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 au nici un fel de simpt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imptomel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 u="sng">
                <a:solidFill>
                  <a:srgbClr val="000000"/>
                </a:solidFill>
                <a:uFillTx/>
                <a:latin typeface="Arial"/>
              </a:rPr>
              <a:t>Bărbaţi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 u="sng">
                <a:solidFill>
                  <a:srgbClr val="000000"/>
                </a:solidFill>
                <a:uFillTx/>
                <a:latin typeface="Arial"/>
              </a:rPr>
              <a:t>Fem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secreţii uretral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dureri abdom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arsuri la urin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sângerări sau secreţ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arsuri la urin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obleme deoseb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fecţ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ecteaz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permanent organ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de reproduc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emin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ificultăţi în a rămâne însărcinată mai târziu când ţi-ai putea d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terili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emeile, dacă rămân însărcinate pot avea o mai mare rată de pierdere a sarcinii datorită ţesutului cicatrizat sau pot avea o sarcină ext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terin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274680"/>
            <a:ext cx="7632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0000"/>
                </a:solidFill>
                <a:uFillTx/>
                <a:latin typeface="Arial"/>
              </a:rPr>
              <a:t>VIRUSUL PAPILOMATOZEI UMA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cest virus cauzează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negii genital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 fiecare 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a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5,5 milioane de cazuri noi şi 20 milioane de persoane sunt infestate numai în S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u există leac pentru VPU. Este o boală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incurabilă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 Negii pot fi extraşi însă ei r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ap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escrieri ale negilo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ot fi foarte mici sau foarte m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ot fi dureroşi şi pot provoca mâncărimi sau iritaţ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 posibil ca o persoană să aibă acest virus şi să nu ş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Virusul Papilomatozei Umane cauzează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ancerul cervica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care este unul dintre principalii factori ce cauzează moartea la fem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79360" y="-1192320"/>
            <a:ext cx="5808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79360" y="-1192320"/>
            <a:ext cx="5808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79360" y="-1192320"/>
            <a:ext cx="5808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640" y="50745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4608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000000"/>
                </a:solidFill>
                <a:uFillTx/>
                <a:latin typeface="Arial"/>
              </a:rPr>
              <a:t>Mituri despre B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Daca mă simt bine nu pot fi infec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fecţii oligosimptomatice sau asimptoma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Prezervativul asigură o protecţie de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cidente: alunecare, rup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xistenţa porilor ocazionali de 1,5 microni – mai mici decât leucocitul; dar de 10 ori mai mari decât HIV şi de 25 de ori mai mari decât virusul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patitei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Dacă am un singur partener sexual o perioadă de timp atunci nu pot fi infec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l mai frecvent tip de transmitere a BTS este transmiterea de tip “monogamie succesivă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Nu pot să fiu infectat de la primul contact sex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dolescentele sunt mai predispuse BTS datorita: tipului de epiteliu ce acoperă colul uterin, calitatea mucusului, imunitatea nespecifică mai mic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46087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 u="sng">
                <a:solidFill>
                  <a:srgbClr val="000000"/>
                </a:solidFill>
                <a:uFillTx/>
                <a:latin typeface="Arial"/>
              </a:rPr>
              <a:t>Prevenirea B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9840" y="1341000"/>
            <a:ext cx="8713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Consultu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dicului de famili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chiar şi pentr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mptomatologie minim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Mijloace de prevenţ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rezervativul - 85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HIV – aceste procent este mai mic pentru adolescenţi; 0% pentru Sifilis şi Herpes; variabil pentru celelalte B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rmicidele – Nonoxynol 9 – produc iritaţii ale mucoaselor cu apariţia de microleziuni ce 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riscul infecţi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titudinea noast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Abstinenţ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înainte de căsăt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onogamie absolută – fidelitate faţă de par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11280" y="1628640"/>
            <a:ext cx="7848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Vă mulţumesc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ile promova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e neg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ngerea celor care nu indeplinesc criteri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ocentrism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ul de inferior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42920" y="476280"/>
            <a:ext cx="338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rcul viet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1530360"/>
            <a:ext cx="871380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42920" y="476280"/>
            <a:ext cx="2881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e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boala cu transmitere sexuală este o infecţie care este transmisă de la o persoana la alta în timpul raportului sex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A, Clamidia, VPU, her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gonoreea, hepatita B, sifilis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3859560"/>
            <a:ext cx="8088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lile cu transmitere sexuală sunt cele mai răspândite boli infecţioase în afară de răceală şi grip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ă 3 milioane de noi cazuri pe an printre adolescenţi (fără a include aici SIDA ) (SUA, 199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rma cu 50 de ani erau cunoscute doar 2 BTS. Astazi exista peste 25 de agenti etiologici si aproape 50 de sindroame clin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sto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960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– nu existau decât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 BTS mai grav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– sifilisul şi gonore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1976 – s-au raportat primele infecţii cu Chlamydia trachoma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1993, SUA – cea mai des întâlnită 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1981 – s-a identificat prima data virusul imuno-deficienţei umane (H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1985 – incidenţa infectiei cu virusului papilomatos uman (HPV) este m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 1991 – 46% din studenţii activi sexual sunt infectaţ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Epoca SIDA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 25 agenţi - 50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2000 – 2001,  în fiecare zi pe glob sunt infectaţi cu HIV peste 6000 de tineri cu vârsta cuprinsă între 15-24 ani; unul la fiecare 5 min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66% din totalitatea BTS sunt raportate la tineri intr 15 si 25 de a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rma cu 50 de ani erau cunoscute doar 2 BTS. Astazi exista peste 25 de agenti si aproape 50 de sindroame clin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842920" y="274320"/>
            <a:ext cx="309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alitat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Film </a:t>
            </a:r>
            <a:br>
              <a:rPr sz="4000"/>
            </a:br>
            <a:br>
              <a:rPr sz="4000"/>
            </a:br>
            <a:r>
              <a:rPr b="0" lang="ro-RO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 YOUR FACE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4248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 u="sng">
                <a:solidFill>
                  <a:srgbClr val="000000"/>
                </a:solidFill>
                <a:uFillTx/>
                <a:latin typeface="Arial"/>
              </a:rPr>
              <a:t>HIV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o-RO" sz="40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o-RO" sz="4000" spc="-1" strike="noStrike" u="sng">
                <a:solidFill>
                  <a:srgbClr val="000000"/>
                </a:solidFill>
                <a:uFillTx/>
                <a:latin typeface="Arial"/>
              </a:rPr>
              <a:t>S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075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irusul Imunodeficientei Um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indromul Imunodeficientei Umane Achizitio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voluţia infecţie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eces rapid - &lt;1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simptomatic pana la 15 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i de transmit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ct sex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nsumul de droguri (acele de uz com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nsumul de alco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atuaj, piercing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ati de cru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ale transplacentară (de la mamă la cop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 poţi lua o boala: de pe toaletă, de pe acelaşi telefon public, prin strângeri de mână, înţepături de insecte, îmbrăţişăr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39640" y="188640"/>
            <a:ext cx="40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 u="sng">
                <a:solidFill>
                  <a:srgbClr val="333399"/>
                </a:solidFill>
                <a:uFillTx/>
                <a:latin typeface="Arial"/>
              </a:rPr>
              <a:t>Stadiu S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4365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oluţia tipică a bol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tome asemănătoare cu ale gripei, scăderi în greutate, ( ulterior vor dispăre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te câteva luni sau ani pot apărea următoarele boli: pneumonie, tumori, cancere, leziuni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la poate afecta capacităţile intelectuale, generând stări de confuzie, pierderea memoriei, psiho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229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0:05:10Z</dcterms:created>
  <dc:creator>jon</dc:creator>
  <dc:description/>
  <dc:language>en-US</dc:language>
  <cp:lastModifiedBy>dan</cp:lastModifiedBy>
  <dcterms:modified xsi:type="dcterms:W3CDTF">2008-03-17T08:15:58Z</dcterms:modified>
  <cp:revision>20</cp:revision>
  <dc:subject/>
  <dc:title>Slide 1</dc:title>
</cp:coreProperties>
</file>