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E1C-8E1F-4444-AFA4-5DC2CEBA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620-7FBC-44D6-AED8-CC50D0F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30B-776B-4E5D-9FFA-FCFA8288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E9E-D25F-42B2-AD79-6D18EE57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729-CF8D-4900-A0F8-DFCF9235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0CC-BB24-48DF-9CD9-8D3B37D4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F58-2CFF-409E-A0E8-087EC47D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345-8891-4718-97A9-77A4E2E1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8E0-1CE3-475C-B388-58FEEEF6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0A3-60B9-4996-B628-BC6AE46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2E6-A646-4AEA-A46B-F4220B4A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B4C-4A1B-48BF-BA81-31EDD39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9B90-3726-4341-9D9D-805E48AD1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clipuri/ALTEX-nebunul.mpg" TargetMode="External"/><Relationship Id="rId2" Type="http://schemas.openxmlformats.org/officeDocument/2006/relationships/hyperlink" Target="file:///E:/clipuri/ALTEX-nebunul.mpg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73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LILE   CU  TRANSMITE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XUAL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395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Chlamy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foarte răspândită printre tineri. Aceasta boală afectează aproximativ 1/3 dintre persoanele active sexual.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e persoane nu au nici cea mai mică idee că ar putea avea această boală pentru că 3 din 4 persoa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 au nici un fel de simpt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imptomel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Bărbaţ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Fem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secreţii uretra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dureri abdom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arsuri la urin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sângerări sau secreţ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arsuri la urin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deoseb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fecţ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eaz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ermanent org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e reproduc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emin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ficultăţi în a rămâne însărcinată mai târziu când ţi-ai putea d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teril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emeile, dacă rămân însărcinate pot avea o mai mare rată de pierdere a sarcinii datorită ţesutului cicatrizat sau pot avea o sarcină ext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teri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632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VIRUSUL PAPILOMATOZEI UMA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cest virus cauz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egii genital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 fiecare 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a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5,5 milioane de cazuri noi şi 20 milioane de persoane sunt infestate numai în S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u există leac pentru VPU. Este o boal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curabil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Negii pot fi extraşi însă ei 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a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scrieri ale negi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ot fi foarte mici sau foarte m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ot fi dureroşi şi pot provoca mâncărimi sau irit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 posibil ca o persoană să aibă acest virus şi să nu ş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irusul Papilomatozei Umane cauz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ncerul cervica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are este unul dintre principalii factori ce cauzează moartea la fem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640" y="50745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4608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Mituri despre B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aca mă simt bine nu pot fi infec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fecţii oligosimptomatice sau asimpto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Prezervativul asigură o protecţie de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cidente: alunecare, rup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istenţa porilor ocazionali de 1,5 microni – mai mici decât leucocitul; dar de 10 ori mai mari decât HIV şi de 25 de ori mai mari decât virusu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patit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acă am un singur partener sexual o perioadă de timp atunci nu pot fi infec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l mai frecvent tip de transmitere a BTS este transmiterea de tip “monogamie succesivă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Nu pot să fiu infectat de la primul contact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dolescentele sunt mai predispuse BTS datorita: tipului de epiteliu ce acoperă colul uterin, calitatea mucusului, imunitatea nespecifică mai mi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4608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000000"/>
                </a:solidFill>
                <a:uFillTx/>
                <a:latin typeface="Arial"/>
              </a:rPr>
              <a:t>Prevenirea 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984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nsultu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dicului de famil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chiar şi pent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mptomatologie minim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Mijloace de preven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ezervativul - 8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HIV – aceste procent este mai mic pentru adolescenţi; 0% pentru Sifilis şi Herpes; variabil pentru celelalte 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rmicidele – Nonoxynol 9 – produc iritaţii ale mucoaselor cu apariţia de microleziuni ce 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riscul infecţ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titudinea noast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Abstinenţ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înainte de căsă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nogamie absolută – fidelitate faţă de par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1628640"/>
            <a:ext cx="784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Vă mulţumesc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ile promov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e 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ngerea celor care nu indeplinesc criteri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centrism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ul de inferior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338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cul vie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7138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288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e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boala cu transmitere sexuală este o infecţie care este transmisă de la o persoana la alta în timpul raportului sex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A, Clamidia, VPU, her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onoreea, hepatita B, sifilis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859560"/>
            <a:ext cx="808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ile cu transmitere sexuală sunt cele mai răspândite boli infecţioase în afară de răceală şi grip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ă 3 milioane de noi cazuri pe an printre adolescenţi (fără a include aici SIDA ) (SUA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rma cu 50 de ani erau cunoscute doar 2 BTS. Astazi exista peste 25 de agenti etiologici si aproape 50 de sindroame cli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sto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960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nu existau decât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 BTS mai grav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– sifilisul şi gonore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76 – s-au raportat primele infecţii cu Chlamydia trachom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93, SUA – cea mai des întâlnită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81 – s-a identificat prima data virusul imuno-deficienţei umane (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85 – incidenţa infectiei cu virusului papilomatos uman (HPV) este 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1991 – 46% din studenţii activi sexual sunt infectaţ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poca SIDA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25 agenţi - 5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000 – 2001,  în fiecare zi pe glob sunt infectaţi cu HIV peste 6000 de tineri cu vârsta cuprinsă între 15-24 ani; unul la fiecare 5 min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66% din totalitatea BTS sunt raportate la tineri intr 15 si 25 de 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rma cu 50 de ani erau cunoscute doar 2 BTS. Astazi exista peste 25 de agenti si aproape 50 de sindroame cli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842920" y="27432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lita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Film </a:t>
            </a:r>
            <a:br>
              <a:rPr sz="4000"/>
            </a:br>
            <a:br>
              <a:rPr sz="4000"/>
            </a:br>
            <a:r>
              <a:rPr b="0" lang="ro-RO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 YOUR FACE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4248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HIV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S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075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irusul Imunodeficientei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indromul Imunodeficientei Umane Achiziti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oluţia infecţi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ces rapid - &lt;1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imptomatic pana la 15 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 de transmit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ct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umul de droguri (acele de uz com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umul de alc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atuaj, piercing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ati de cru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le transplacentară (de la mamă la cop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 poţi lua o boala: de pe toaletă, de pe acelaşi telefon public, prin strângeri de mână, înţepături de insecte, îmbrăţişă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39640" y="18864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333399"/>
                </a:solidFill>
                <a:uFillTx/>
                <a:latin typeface="Arial"/>
              </a:rPr>
              <a:t>Stadiu 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ţia tipică a bol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tome asemănătoare cu ale gripei, scăderi în greutate, ( ulterior vor dispăre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e câteva luni sau ani pot apărea următoarele boli: pneumonie, tumori, cancere, leziuni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la poate afecta capacităţile intelectuale, generând stări de confuzie, pierderea memoriei, psiho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29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0:05:10Z</dcterms:created>
  <dc:creator>jon</dc:creator>
  <dc:description/>
  <dc:language>en-US</dc:language>
  <cp:lastModifiedBy>dan</cp:lastModifiedBy>
  <dcterms:modified xsi:type="dcterms:W3CDTF">2008-03-17T08:15:58Z</dcterms:modified>
  <cp:revision>20</cp:revision>
  <dc:subject/>
  <dc:title>Slide 1</dc:title>
</cp:coreProperties>
</file>