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D3B02-CD05-4C75-A23A-786C67230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5BC33-F699-4404-A491-341BAC0EE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571ED-0785-4625-B426-EE72A78CC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90982-CCF3-42CA-81A7-27357A7D4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A83DE-E130-44B9-80E4-97189DDE5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41BE7-D1D3-4925-AD0C-825C8C8B1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AA3F7-E67F-48C2-9FE1-AD5961E25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CA990-FF6D-4917-955A-81E2DC3E2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81B66-708E-4185-9ABF-DC5C34B26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0CF16-32CF-4853-8319-022EC5503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D24FA-0D62-4A87-B9C5-5F60495D5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B1080-C2B8-46A8-B1B5-E66BAA66C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9b4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106C4-6D38-415C-A327-5A935DF5B0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teenpregnancz.org/facts.htm" TargetMode="External"/><Relationship Id="rId2" Type="http://schemas.openxmlformats.org/officeDocument/2006/relationships/hyperlink" Target="http://www.teenpregnancz.org/facts.htm" TargetMode="External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9b4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000" y="1916280"/>
            <a:ext cx="827892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6600" spc="-1" strike="noStrike">
                <a:solidFill>
                  <a:srgbClr val="000000"/>
                </a:solidFill>
                <a:latin typeface="Arial"/>
              </a:rPr>
              <a:t>SARCINA – AVOR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9b4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50920" y="1530360"/>
            <a:ext cx="8713800" cy="51386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843280" y="476280"/>
            <a:ext cx="3384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ercul vieti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9b4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 u="sng">
                <a:solidFill>
                  <a:srgbClr val="000000"/>
                </a:solidFill>
                <a:uFillTx/>
                <a:latin typeface="Arial"/>
              </a:rPr>
              <a:t>Incidenţa sarcinii</a:t>
            </a: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cina la adolescenţi în Statele Un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*Pe an?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m 1 milion de adolesc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*Pe zi?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 puţin 2,700 de adolesc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Avorturi?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,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Naşteri?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,4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Câteva pierderi de sarcin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 sarcină afectează mult viaţa adolescentelor, a copiilor şi a taţilor adolescenţ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*Sursa: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teenpregnancz.org/facts.h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9b4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iclul fertilitatii la femei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9640" y="105264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ând o fată este născută ea are deja toate ovulele pe care le va avea vreodată – 400.000 (ele rămân aşa în perioada copilărie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ând o fată ajunge la vârsta de 12, 13 ani, apar hormonii (estrogenul este secretat) şi astfel este eliminat primul ovu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ulul stă in trompa uterină pentru 2 zile şi se dezintegrează atunci când nu apare fertilizarea cu un spermatozo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În acest timp uterul este format din vase de sânge şi membrana ce se pregăteşte să dezvolte ovulul dacă apare fertilizarea (dacă ovulul se transformă într-un viitor copilaş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 2 săptămâni dupa ce ovulul a fost eliberat, femeia are acea scurgere – care este numită ciclu menstru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 ciclu menstrual la o femeie durează aproximativ 30 zile – ciclul fertilităţi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9b4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26920" y="0"/>
            <a:ext cx="7632720" cy="95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Informaţii despre sarcină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528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i="1" lang="ro-RO" sz="2400" spc="-1" strike="noStrike">
                <a:solidFill>
                  <a:srgbClr val="000000"/>
                </a:solidFill>
                <a:latin typeface="Arial"/>
              </a:rPr>
              <a:t>rice fată poate rămâ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i="1" lang="ro-RO" sz="2400" spc="-1" strike="noStrike">
                <a:solidFill>
                  <a:srgbClr val="000000"/>
                </a:solidFill>
                <a:latin typeface="Arial"/>
              </a:rPr>
              <a:t>e însărcinat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dar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nu se poate şti cu precizie 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arcina poate aparea in fiecare z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deoarece ciclul este perturbat de mai multi factori: adolescenta, stres, oboseala, infect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Arial"/>
              </a:rPr>
              <a:t>Via</a:t>
            </a:r>
            <a:r>
              <a:rPr b="1" i="1" lang="ro-RO" sz="2400" spc="-1" strike="noStrike">
                <a:solidFill>
                  <a:srgbClr val="000000"/>
                </a:solidFill>
                <a:latin typeface="Arial"/>
              </a:rPr>
              <a:t>ţa începe în momentul concepţiei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– i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n momentul conceptiei materialul genetic, ADN-ul este complet si contine toate caracteristicile viitorului adult. Aceasta are nevoie de hrana si protecti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Arial"/>
              </a:rPr>
              <a:t>Suntem unici si egali ca valoare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400" spc="-1" strike="noStrike">
                <a:solidFill>
                  <a:srgbClr val="000000"/>
                </a:solidFill>
                <a:latin typeface="Arial"/>
              </a:rPr>
              <a:t>Nu există protecţie 100% decât abstinenţ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9b4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0000"/>
                </a:solidFill>
                <a:latin typeface="Arial"/>
              </a:rPr>
              <a:t>Ce impact are o sarcină în viaţa unui adolescent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000" y="1413000"/>
            <a:ext cx="764388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72960" indent="-37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Educati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2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 legătură este între a avea un copil şi planurile cu şcoal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729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Viitorului profesional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2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Cum ne afecteaza viitorul profesinal?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29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Problemelor financi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2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 costă mult ca să poţi creşte un copil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729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Relatiei cu famil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2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m va reacţiona familia t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729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Servici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2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ce fel de slujbă te aştepţi să poţi avea ca şi adolescen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729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Vietii soci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2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ezi ca viaţa ta socială se va schimb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729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Consecintele asupra copilul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2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ţi tu însuţi să creşti un alt copil când mai ai tu încă nevoie să creşti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9b4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Etapele de criză parcurse de adolesc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olescenţ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Anxietate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formari fiz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rustra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rinţelor din ce în ce mai mar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esiuni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urajulu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evoi interioare noi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tate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imitate, atracţie faţă de sexul opus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perienţa sexual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xul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u este o experienţă banal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Ea te schimbă profund. Aduce frică, teamă, ascundere, vulnerabilitate, rupe relaţiile cu cei din ju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cin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e să fac?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vort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- Pare o soluţie dar nu este de fapt decât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o nouă problem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419280" y="220500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419280" y="242100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3924000" y="278136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3419280" y="256536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9b4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4360" y="2565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4400" spc="-1" strike="noStrike">
                <a:solidFill>
                  <a:srgbClr val="000000"/>
                </a:solidFill>
                <a:latin typeface="Arial"/>
              </a:rPr>
              <a:t>Alege liber libertatea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27432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3600" spc="-1" strike="noStrike">
                <a:solidFill>
                  <a:srgbClr val="000000"/>
                </a:solidFill>
                <a:latin typeface="Arial"/>
              </a:rPr>
              <a:t>Vă mulţumesc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9b4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979640" y="188640"/>
            <a:ext cx="5113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000000"/>
                </a:solidFill>
                <a:latin typeface="Arial"/>
              </a:rPr>
              <a:t>Ce aduce avortul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bleme legate de procedur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ecţ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forarea uterul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ierderea sarcinilor ulterio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ertilit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Consecinte psihologice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am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ruş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regre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nabilitate de relationa cu viitorii cop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ndromul de Stres Post Avor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depresie, coşmaruri, flash-backuri, teamă, vinovăţie, greutate în a relaţiona cu copiii, partenerul de viaţă, părinţii – care adesea impun avortul, frica de sunet de aspirator, sindromul aniversării…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21:07:49Z</dcterms:created>
  <dc:creator>jon</dc:creator>
  <dc:description/>
  <dc:language>en-US</dc:language>
  <cp:lastModifiedBy>dan</cp:lastModifiedBy>
  <dcterms:modified xsi:type="dcterms:W3CDTF">2008-03-26T07:24:20Z</dcterms:modified>
  <cp:revision>13</cp:revision>
  <dc:subject/>
  <dc:title>Slide 1</dc:title>
</cp:coreProperties>
</file>