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FFA-4A68-45F1-9F5E-F0B10A85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304-03A1-4F8D-B229-24585CD4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EBE-AEDB-4A69-A854-2146E5EF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86F-3661-489C-BBE2-2B65718F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E52-768C-4B38-B2C0-AFA0A71C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251-A722-4CDC-BA18-9E63A15B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40D-760B-4222-BB10-6310F320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616-C503-445A-809F-81FBD378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F64-D420-484E-B6CA-DCF64085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471-BF74-4DBC-87BB-84741F64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6C1-5A3B-4942-9473-5F38BD3E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C78-9E22-4F80-AA63-5174F1A0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95FC-2E8C-465C-B14D-3505AAF39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enpregnancz.org/facts.htm" TargetMode="External"/><Relationship Id="rId2" Type="http://schemas.openxmlformats.org/officeDocument/2006/relationships/hyperlink" Target="http://www.teenpregnancz.org/facts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16280"/>
            <a:ext cx="82789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>
                <a:solidFill>
                  <a:srgbClr val="000000"/>
                </a:solidFill>
                <a:latin typeface="Arial"/>
              </a:rPr>
              <a:t>SARCINA – AVO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530360"/>
            <a:ext cx="8713800" cy="513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43280" y="476280"/>
            <a:ext cx="33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rcul viet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 u="sng">
                <a:solidFill>
                  <a:srgbClr val="000000"/>
                </a:solidFill>
                <a:uFillTx/>
                <a:latin typeface="Arial"/>
              </a:rPr>
              <a:t>Incidenţa sarcinii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cina la adolescenţi în Statele U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Pe an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 1 milion de adolesc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Pe zi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 puţin 2,700 de adolesc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Avorturi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Naşteri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Câteva pierderi de sarcin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sarcină afectează mult viaţa adolescentelor, a copiilor şi a taţilor adolescenţ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Sursa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eenpregnancz.org/fact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iclul fertilitatii la feme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ând o fată este născută ea are deja toate ovulele pe care le va avea vreodată – 400.000 (ele rămân aşa în perioada copilări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ând o fată ajunge la vârsta de 12, 13 ani, apar hormonii (estrogenul este secretat) şi astfel este eliminat primul ov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ulul stă in trompa uterină pentru 2 zile şi se dezintegrează atunci când nu apare fertilizarea cu un spermatoz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 acest timp uterul este format din vase de sânge şi membrana ce se pregăteşte să dezvolte ovulul dacă apare fertilizarea (dacă ovulul se transformă într-un viitor copilaş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2 săptămâni dupa ce ovulul a fost eliberat, femeia are acea scurgere – care este numită ciclu menstr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ciclu menstrual la o femeie durează aproximativ 30 zile – ciclul fertilităţ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632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formaţii despre sarcin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rice fată poate rămâ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e însărcinat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a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nu se poate şti cu precizi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arcina poate aparea in fiecare z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oarece ciclul este perturbat de mai multi factori: adolescenta, stres, oboseala, infect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ţa începe în momentul concepţie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– 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 momentul conceptiei materialul genetic, ADN-ul este complet si contine toate caracteristicile viitorului adult. Aceasta are nevoie de hrana si protec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Suntem unici si egali ca valo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Nu există protecţie 100% decât abstinenţ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Ce impact are o sarcină în viaţa unui adolesc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643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Educat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 legătură este între a avea un copil şi planurile cu şcoal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Viitorului profesiona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um ne afecteaza viitorul profesinal?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roblemelor financ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costă mult ca să poţi creşte un copil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Relatiei cu fami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m va reacţiona familia t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ervici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e fel de slujbă te aştepţi să poţi avea ca şi adolesc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Vietii soc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zi ca viaţa ta socială se va schimb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nsecintele asupra copil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ţi tu însuţi să creşti un alt copil când mai ai tu încă nevoie să creşt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tapele de criză parcurse de adoles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olescenţ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Anxietate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ari fiz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str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nţelor din ce în ce mai m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iuni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urajul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voi interioare noi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imitate, atracţie faţă de sexul opu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ţa sexual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 este o experienţă banal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Ea te schimbă profund. Aduce frică, teamă, ascundere, vulnerabilitate, rupe relaţiile cu cei din j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c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e să fac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r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Pare o soluţie dar nu este de fapt decâ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 nouă problem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419280" y="220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419280" y="24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24000" y="278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19280" y="256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</a:rPr>
              <a:t>Alege liber libertate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000000"/>
                </a:solidFill>
                <a:latin typeface="Arial"/>
              </a:rPr>
              <a:t>Vă mulţumesc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5113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e aduce avortu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e legate de procedur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area uter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erderea sarcinilor ulteri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ti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secinte psihologic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uş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r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abilitate de relationa cu viitorii cop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dromul de Stres Post Av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presie, coşmaruri, flash-backuri, teamă, vinovăţie, greutate în a relaţiona cu copiii, partenerul de viaţă, părinţii – care adesea impun avortul, frica de sunet de aspirator, sindromul aniversării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21:07:49Z</dcterms:created>
  <dc:creator>jon</dc:creator>
  <dc:description/>
  <dc:language>en-US</dc:language>
  <cp:lastModifiedBy>dan</cp:lastModifiedBy>
  <dcterms:modified xsi:type="dcterms:W3CDTF">2008-03-26T07:24:20Z</dcterms:modified>
  <cp:revision>13</cp:revision>
  <dc:subject/>
  <dc:title>Slide 1</dc:title>
</cp:coreProperties>
</file>