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29.jpeg" ContentType="image/jpeg"/>
  <Override PartName="/ppt/media/image4.png" ContentType="image/png"/>
  <Override PartName="/ppt/media/image27.png" ContentType="image/png"/>
  <Override PartName="/ppt/media/image3.png" ContentType="image/png"/>
  <Override PartName="/ppt/media/image26.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F815-D000-48E3-9D20-C079E560A2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9911-713E-4AAD-82E8-D037CAFE27E9}"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a ar trebui să fie pregătită înainte de începerea orei. Proiectorul şi planşa puse pe poziţie. Veniţi şi cu cărţi, gen Danion Vasile, pentru tineri, ce alegeţi voi. Ideal ar fi să le treceţi prin faţa nasului, “aici găsiţi multe idei frumoase şi interesante, dacă vreţi să aflaţi mai multe despre ce vă vorbesc”. E posibil să le vrea, şi dacă le vor e posibil să le aducă înapoi, e posibil să nu. Punem la punct o mică listă de cărţi de luat cu n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clasă mai trebuie două bannere, unul cu sigla Pro-Vita şi unul cu una de la campa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TREBUIE ÎN NICI UN CAZ SĂ SE AŞEZE ÎN BĂNCI, DACĂ SALA E CU BĂNCI. Le spuneţi să se aşeze pe ce vor ei, pe mese, pe bănci, pe jos, oricum, dar nu în bănci ca în mod normal. Ideal ar fi ca sala să fie ciudată de la bun început, să poţi pune tu scaunele cum vrei. În cazul acesta cea mai bună idee este în cerc, cu proiectorul fie într-o parte, fie în faţă. Ce se vede pe laptop e bine să fie separat, şi pus deoparte puţ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 fi frumos ca atunci când intră în clasă să se audă muzică, să nu intre ca la o oră obişnuită, să fie deja o atmosferă deosebită, altf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mosfera se poate destinde la început prin o introducere simplă, gen “de unde veniţi?”, “ce oră aţi avut înainte?”, “ce ore faceţi în mod normal în sala asta?”. Ceva să-i trezeşti din amorţeală, să înceapă o mică discuţie, o mică comunicare, c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oi poţi să-i întrebi dacă le-a zis profesorul ce va avea loc în ora asta, măcar e un început să ştii cu ce idei au venit. Vă prezentaţi amândoi, veniţi de la “provita bucureşti”. Poţi să-i întrebi dacă ştiu ce înseamnă provita, spre exemplu</a:t>
            </a:r>
            <a:r>
              <a:rPr b="0" lang="ro-RO" sz="1200" spc="-1" strike="noStrike">
                <a:solidFill>
                  <a:srgbClr val="000000"/>
                </a:solidFill>
                <a:latin typeface="Wingdings"/>
                <a:ea typeface="Wingdings"/>
              </a:rPr>
              <a:t></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oi merge ideea cu regulile. Pui foaia de flipchart lângă tine, plus un marker: “Următoarele cursuri nu vor fi tocmai ca orele cu care sunteţi obişnuiţi. O idee bună ar fi, ca să ne înţelegem bine şi frumos, să stabilim toţi acum nişte idei de urmat de toată lumea.” Apoi le propui să vină cu reguli pe care să le respecte toţi. Să vină şi de la ei. Fie că vin, fie că nu vin de la ei, trebuie urmărite următoar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0" lang="ro-RO" sz="1200" spc="-1" strike="noStrike">
                <a:solidFill>
                  <a:srgbClr val="000000"/>
                </a:solidFill>
                <a:latin typeface="Arial"/>
              </a:rPr>
              <a:t>dacă sună mobilul nu fac crize, nu întreb nimic, ci doar ies afară din clasă dacă vreau să vorbe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0" lang="ro-RO" sz="1200" spc="-1" strike="noStrike">
                <a:solidFill>
                  <a:srgbClr val="000000"/>
                </a:solidFill>
                <a:latin typeface="Arial"/>
              </a:rPr>
              <a:t>nu râdem de altul”. “Nimeni nu se simte bine în astfel de cazuri. Va fi poate dificil să ne înţelegem, mai bine ne ajutăm decât să ne împiedicăm unul de altul.” “râdem cu cineva, nu de cin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0" lang="ro-RO" sz="1200" spc="-1" strike="noStrike">
                <a:solidFill>
                  <a:srgbClr val="000000"/>
                </a:solidFill>
                <a:latin typeface="Arial"/>
              </a:rPr>
              <a:t>fără judecăţi de valoare”. “În termeni simpli, fără ce naşpa eşti tu! Ori ce prostie ai z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oi întrebare simplă, “Despre ce vom vorb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1B3C-11BA-455E-80AF-E9CBCC6593A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0099-EC43-4FD3-9A06-F4741862EF2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a ce citesti definitia 1 si 2, e bine de intrebat clasa daca nu observa o eroare de rationament, de obicei se gaseste vreunul mai ratacit, daca nu ii ajutam… Ba spune ca nu are loc ovulatia, ba ca are lo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nu te sperii daca vor fi mai multi baieti in clasa, sau poate daca vei crede ca pe baieti nu-i intereseaza, atrage-le atentia (pentru ca e foarte posibil ca si ei sa gandeasca ca pe ei nu-i priveste si nu vor mai fi atenti) ca si de ei tine asta, ca pot spune si ei mai departe si nu care cumva sa-si sfatuiasca sotia vreodata sa ia asa ceva. Intr-un cuvant, responsabilizarea baietilor. Functioneaza foarte bine, de asta cred ca o ai succes acolo, ca baiat printre baieti. O sa fie bine.</a:t>
            </a: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B208-6C6A-4F0E-8A4E-71A80F8EA08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ai pune ceva informatii si despre asta, ca mai spun si pe acasa copilasii ast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E94F-81E8-4C13-A192-45ADBA73E11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la acest capitol as baga ceva si despre masturbare… inca nu stiu ce si in ce forma, dar as baga asta… de obicei mai ramane timp si mai pot fi discutate multe… Puteti sa faceti si sedinta de intrebari si asa mai departe. Din pacate aici nu am filmul, dar e bun de arata de pe youtube Abortifacticed (parca se numeste asa… nu mai stiu sigur, ceva de genu… in care arata ce face pilula, sunt sigiura ca stii si tu mai multe de felul asta). Ca sa incheiati intr-un fel rotund intreaga incursiune, poti la fel de bine sa reamintesti discutia din prima zi despre iubire. Intreaba-i daca asta e iubirea si daca nu cumva oprirea fructului firesc care vine din ea, de fapt o distruge. Ar fi minunat sa ajunga si ei la concluzia asta. Doamne ajuta. As fi vrut mult sa fiu langa voi.</a:t>
            </a: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B4CA-D79F-4D7C-9CAF-F7E3389D68F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5D9F-213B-49BD-AE20-817223D5483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tie, despre cate feluri este… ce stiti despre ele etc. Poti sa si notezi pe tabla raspunsurile lo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3447-A99B-40FA-9CC2-08A0666F9AF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incercam sa le raspundem la intrebarea: Cine sunt acesti ei, care nu vor ca noi sa stim anumite lucruri? Mai precis sa intrebam clasa si ei sa raspunda, ar fi minunat daca se gaseste raspunsul ca sunt producatorii de tot felul de metode de contraceptie. Si de ce asta? Pentru ca este punctul nostru vulnerabil, asa putem fi exploatat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B818-C7C3-4F4A-8E58-1688BF0E09C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AAA7-1F77-489C-82E0-8FDDEE7DE28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2AB2-1392-417F-891D-68D063B3473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4383-F78A-4EAB-BF82-772689C579E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7E75E-C0DB-4FB3-9F45-EFABA7C3B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E5C7A-70BB-42E7-82CB-C968F3466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CD039-43EA-4B2C-B074-4F2D14E0C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14666-8F2C-4F04-948E-B1BAE99B0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11A9B-B752-4153-AB7F-B2E266FC1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402CE-D029-4F8B-935E-C6F79AE83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4B563-D3C3-4125-95B5-EC2F4C5AF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FA39E-32DA-4294-99C4-FCC773A1A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AFF3C-C592-4B2F-ABBF-646ABB6FF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CE5EB-D007-4625-AEE3-79810738E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A3C52-1630-48EF-AF7F-1088DAB74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DBC1E-55A0-4708-B40E-100B3B2D3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382EB-BC35-4140-B470-6AE68010A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3E600-8CF9-407F-A69F-F2324355A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20418-DEDA-45D3-A37D-70A876785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2FF03-0526-4B92-8830-88AD8CF76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FA6A4-BA44-4A4F-B25F-91180CE36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525AED-D67D-4DBB-BF2B-9F7EC85918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8971F-17EB-4606-BF35-A2804BA5B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63CB33-DE75-47D2-8962-53940D203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CA144E-6441-4CF5-915A-237D3CFDA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2B95E0-6487-4C3C-BCB4-1A66C00E93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20C3F-5967-4B17-8DCF-1E0EC5F1E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A52E0E-B903-465E-B922-B2466A43A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0F98C-C626-4C25-AFC4-86DFFA488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181AD-92D2-4A8D-BB10-CFA2AB713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24F93-D64D-4E80-849A-F5687019EC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BA4E7-71C8-42FE-A0BC-5951B075E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91D4E8-EFCA-476E-BC11-149EE8068A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786B58-BDB3-459B-97BE-E49EEC00D8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138758-A941-4754-B3DE-1AC6F157B9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289BB8-58A3-42C8-B9F5-5E0C99930F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A43E9-048B-42FD-9E7F-3D7E8ECA0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51935-7502-4176-8BED-C1AAE7B39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0F1DC3-42C7-45BB-A428-22C71A825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0FB73-A45E-4B48-92B3-070117D857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5E9423-A58A-4F9F-A7AE-785773E6D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FCB31-C0B9-4E3D-8553-5EC49DB39C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5700B-039C-452E-B581-3AB3B6648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7D0B9-EB26-4E63-9F42-55CFEDD57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566EA5-83C2-4BDA-A6D6-B8742B2D5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DDEAB0-4D43-405A-820A-0949C1196C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3B53C2-4E1E-4685-A032-FA0F71B035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04841C-1463-43EC-A0AC-4481F339AB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B293D-063F-4168-A978-DA4C59E94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84FCD-6FFB-4B1B-944E-92BD3C0D9C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47916-98F2-469B-8701-5C59FA5230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A4A4E8-1FEC-445B-B6D2-8A69418116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43E303-5CEC-40E8-95BD-1060B6069D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3B0EE0-5634-47A1-A88A-B905A17611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C8E29B-F8F8-4B02-990C-D25BE8672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C25A1-84F6-417A-8065-3BC765296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021D4-2852-4ABF-905B-599D4C36B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54898F-B6E5-42CC-8662-CD47E6D722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7BDF1C-8728-4068-89CA-53B1E9D9BC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74078-11A1-472D-9A49-4ED1E4D89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DCBB5E-BC07-4792-B1F1-05A65F0D0D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22A630-B91A-4DE7-8106-F00D94A25C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7B94FD-8BBF-4D2C-A1BC-5F90E86F74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BFB0F6-E75C-4BDD-9501-B6FBD803F8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34E433-B072-4815-A16D-D40A67DFF8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622EBA-A95A-46CE-8588-8BA30C14BF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FC9B03-F9E3-4004-8928-2EAF556FA1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9DAFA-0DBD-4D0A-9616-B0FC4E9E19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7A285-482A-45DF-B937-ED7FDC234C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DFB2E4-FF08-4EE3-A0EE-918B3EF14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16C6-F1E9-4503-BA92-243796783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C5A878-11C5-42B4-8AE5-1934B63698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24162B-F4C2-4305-BB79-2EBB42EDFC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A27061-E703-46CD-A3D8-EAE6378E0C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953321-B05C-48CB-80DE-6E3BE2BAC9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5D8028-D09F-4112-BCFE-5D72587855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A6178E-D7BF-4999-B380-269941046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25B76F-E3DD-48A2-884D-59746B1289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10DEED-F401-4CC5-B059-DCEC229C86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D63D7B-1488-4C9B-8565-44C5E5A524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F6557-CA4E-4806-B42E-8567F4BE34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8D750-14A3-4A08-978C-0A87C15F4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5D4F24-EC4B-4F2A-849F-383A97759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E337E0-95B0-4279-BD5A-DB7E5C616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9AB2E6-77C3-4B89-9619-13B762A0CD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F48E54-E569-419E-BA76-9A54A0A485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812F1E-F44A-41E0-BFEF-3CBF4C1B1D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6E54-5C0C-46FA-9CF1-D5EA6E1B8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96B2-D46C-438A-A6B8-381AA6928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673E-D16F-40F0-BAE4-3119258A9336}"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0763-F1B6-4FAF-A487-28A624686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7285-9689-4BB8-AC6E-5752EFC15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DDCB-E7D5-410F-9AFF-A04C38D75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526B-2BF3-4272-8EA4-C61E71385842}"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DCD5-BFE8-47A8-9797-D309ECFBCE83}"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Box 4"/>
          <p:cNvSpPr/>
          <p:nvPr/>
        </p:nvSpPr>
        <p:spPr>
          <a:xfrm>
            <a:off x="785880" y="4857840"/>
            <a:ext cx="7358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ampanie organizată d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sociaţia Pro-Vita filiala Bucureşti</a:t>
            </a:r>
            <a:endParaRPr b="0" lang="en-US" sz="1800" spc="-1" strike="noStrike">
              <a:solidFill>
                <a:srgbClr val="ffffff"/>
              </a:solidFill>
              <a:latin typeface="Times New Roman"/>
            </a:endParaRPr>
          </a:p>
        </p:txBody>
      </p:sp>
      <p:pic>
        <p:nvPicPr>
          <p:cNvPr id="309" name="Picture 7" descr="C:\Users\Victor\Desktop\vreausaaflulogo.png"/>
          <p:cNvPicPr/>
          <p:nvPr/>
        </p:nvPicPr>
        <p:blipFill>
          <a:blip r:embed="rId1"/>
          <a:stretch/>
        </p:blipFill>
        <p:spPr>
          <a:xfrm>
            <a:off x="2071800" y="420840"/>
            <a:ext cx="4572000" cy="450828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2266560" y="1599840"/>
            <a:ext cx="6419880" cy="4530600"/>
          </a:xfrm>
          <a:prstGeom prst="rect">
            <a:avLst/>
          </a:prstGeom>
          <a:noFill/>
          <a:ln w="0">
            <a:noFill/>
          </a:ln>
        </p:spPr>
        <p:txBody>
          <a:bodyPr anchor="t">
            <a:normAutofit/>
          </a:bodyPr>
          <a:p>
            <a:pPr marL="447840" indent="-382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entury Gothic"/>
              </a:rPr>
              <a:t> </a:t>
            </a:r>
            <a:endParaRPr b="0" lang="en-US" sz="7200" spc="-1" strike="noStrike">
              <a:solidFill>
                <a:srgbClr val="ffffff"/>
              </a:solidFill>
              <a:latin typeface="Century Gothic"/>
            </a:endParaRPr>
          </a:p>
        </p:txBody>
      </p:sp>
      <p:sp>
        <p:nvSpPr>
          <p:cNvPr id="322" name="Rectangle 4"/>
          <p:cNvSpPr/>
          <p:nvPr/>
        </p:nvSpPr>
        <p:spPr>
          <a:xfrm>
            <a:off x="2416320" y="2490840"/>
            <a:ext cx="4460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3" name="Rectangle 5"/>
          <p:cNvSpPr/>
          <p:nvPr/>
        </p:nvSpPr>
        <p:spPr>
          <a:xfrm>
            <a:off x="755640" y="907920"/>
            <a:ext cx="7488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Pilula contraceptiva actioneaza prin impiedicarea ovulatiei. In absenta ovulatiei, ovarele nu elibereaza nici un ovul. Nu va exista astfel nici un ovul gata de fecundare si, prin urmare, nici posibilitatea unei conceptii. Aceste efecte sunt datorate hormonilor feminini respectiv estrogenului si progestativului continuti de pilula.</a:t>
            </a: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2266560" y="1599840"/>
            <a:ext cx="6419880" cy="4530600"/>
          </a:xfrm>
          <a:prstGeom prst="rect">
            <a:avLst/>
          </a:prstGeom>
          <a:noFill/>
          <a:ln w="0">
            <a:noFill/>
          </a:ln>
        </p:spPr>
        <p:txBody>
          <a:bodyPr anchor="t">
            <a:normAutofit/>
          </a:bodyPr>
          <a:p>
            <a:pPr marL="447840" indent="-382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entury Gothic"/>
              </a:rPr>
              <a:t> </a:t>
            </a:r>
            <a:endParaRPr b="0" lang="en-US" sz="7200" spc="-1" strike="noStrike">
              <a:solidFill>
                <a:srgbClr val="ffffff"/>
              </a:solidFill>
              <a:latin typeface="Century Gothic"/>
            </a:endParaRPr>
          </a:p>
        </p:txBody>
      </p:sp>
      <p:sp>
        <p:nvSpPr>
          <p:cNvPr id="325" name="Rectangle 3"/>
          <p:cNvSpPr/>
          <p:nvPr/>
        </p:nvSpPr>
        <p:spPr>
          <a:xfrm>
            <a:off x="2416320" y="2490840"/>
            <a:ext cx="4460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6" name="Rectangle 4"/>
          <p:cNvSpPr/>
          <p:nvPr/>
        </p:nvSpPr>
        <p:spPr>
          <a:xfrm>
            <a:off x="755640" y="907920"/>
            <a:ext cx="7488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Prin intermediul pilulei, mucusul din colul uterin va ramane vascos pe intreg parcursul lunii, spermatozoizii neputand astfel patrunde in uter. Mai mult, cu ajutorul pilulei se obtine o schimbare la nivelul mucoasei uterine, care ingreuneaza nidatia unui eventual ovul fecundat.</a:t>
            </a: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Rectangle 2" descr=""/>
          <p:cNvPicPr/>
          <p:nvPr/>
        </p:nvPicPr>
        <p:blipFill>
          <a:blip r:embed="rId1"/>
          <a:stretch/>
        </p:blipFill>
        <p:spPr>
          <a:xfrm>
            <a:off x="450720" y="262080"/>
            <a:ext cx="8242560" cy="1407960"/>
          </a:xfrm>
          <a:prstGeom prst="rect">
            <a:avLst/>
          </a:prstGeom>
          <a:ln w="0">
            <a:noFill/>
          </a:ln>
        </p:spPr>
      </p:pic>
      <p:sp>
        <p:nvSpPr>
          <p:cNvPr id="328"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Hormonii folositi, </a:t>
            </a:r>
            <a:r>
              <a:rPr b="1" lang="en-US" sz="3000" spc="-1" strike="noStrike" u="sng">
                <a:solidFill>
                  <a:srgbClr val="ffffff"/>
                </a:solidFill>
                <a:uFillTx/>
                <a:latin typeface="Century Gothic"/>
              </a:rPr>
              <a:t>estrogen si progesteron</a:t>
            </a:r>
            <a:r>
              <a:rPr b="1" lang="en-US" sz="3000" spc="-1" strike="noStrike">
                <a:solidFill>
                  <a:srgbClr val="ffffff"/>
                </a:solidFill>
                <a:latin typeface="Century Gothic"/>
              </a:rPr>
              <a:t>, sunt doi hormoni feminini care administrati unei femei sanatoase, produc modificari insemnate la nivelul organelor genitale si a intregului organism, generand un lant de reactii secundare care provoaca in timp boli cronice grave, dar cel mai grav efect al lor este:</a:t>
            </a:r>
            <a:endParaRPr b="0" lang="en-US" sz="3000" spc="-1" strike="noStrike">
              <a:solidFill>
                <a:srgbClr val="ffffff"/>
              </a:solidFill>
              <a:latin typeface="Century Gothic"/>
            </a:endParaRPr>
          </a:p>
          <a:p>
            <a:pPr marL="4478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AVORTUL HORMONAL</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450720" y="262080"/>
            <a:ext cx="8242560" cy="1407960"/>
          </a:xfrm>
          <a:prstGeom prst="rect">
            <a:avLst/>
          </a:prstGeom>
          <a:ln w="0">
            <a:noFill/>
          </a:ln>
        </p:spPr>
      </p:pic>
      <p:sp>
        <p:nvSpPr>
          <p:cNvPr id="330" name=""/>
          <p:cNvSpPr txBox="1"/>
          <p:nvPr/>
        </p:nvSpPr>
        <p:spPr>
          <a:xfrm>
            <a:off x="457200" y="1882800"/>
            <a:ext cx="8229600" cy="4572000"/>
          </a:xfrm>
          <a:prstGeom prst="rect">
            <a:avLst/>
          </a:prstGeom>
          <a:noFill/>
          <a:ln w="0">
            <a:noFill/>
          </a:ln>
        </p:spPr>
        <p:txBody>
          <a:bodyPr anchor="t">
            <a:normAutofit/>
          </a:bodyPr>
          <a:p>
            <a:pPr marL="514440" indent="-514440">
              <a:lnSpc>
                <a:spcPct val="90000"/>
              </a:lnSpc>
              <a:spcBef>
                <a:spcPts val="11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entury Gothic"/>
              </a:rPr>
              <a:t>Efectul contraceptiv</a:t>
            </a:r>
            <a:endParaRPr b="0" lang="en-US" sz="4600" spc="-1" strike="noStrike">
              <a:solidFill>
                <a:srgbClr val="ffffff"/>
              </a:solidFill>
              <a:latin typeface="Century Gothic"/>
            </a:endParaRPr>
          </a:p>
          <a:p>
            <a:pPr marL="514440" indent="-514440">
              <a:lnSpc>
                <a:spcPct val="90000"/>
              </a:lnSpc>
              <a:spcBef>
                <a:spcPts val="11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entury Gothic"/>
              </a:rPr>
              <a:t>Efectul abortiv</a:t>
            </a:r>
            <a:endParaRPr b="0" lang="en-US" sz="4600" spc="-1" strike="noStrike">
              <a:solidFill>
                <a:srgbClr val="ffffff"/>
              </a:solidFill>
              <a:latin typeface="Century Gothic"/>
            </a:endParaRPr>
          </a:p>
          <a:p>
            <a:pPr marL="514440" indent="-514440">
              <a:lnSpc>
                <a:spcPct val="90000"/>
              </a:lnSpc>
              <a:spcBef>
                <a:spcPts val="11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entury Gothic"/>
              </a:rPr>
              <a:t>Efectul asupra celorlalte organe</a:t>
            </a:r>
            <a:endParaRPr b="0" lang="en-US" sz="4600" spc="-1" strike="noStrike">
              <a:solidFill>
                <a:srgbClr val="ffffff"/>
              </a:solidFill>
              <a:latin typeface="Century Gothic"/>
            </a:endParaRPr>
          </a:p>
          <a:p>
            <a:pPr marL="514440" indent="-514440">
              <a:lnSpc>
                <a:spcPct val="90000"/>
              </a:lnSpc>
              <a:spcBef>
                <a:spcPts val="11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a:p>
            <a:pPr marL="514440" indent="-51444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entury Gothic"/>
              </a:rPr>
              <a:t>Eficienta: 93%</a:t>
            </a:r>
            <a:endParaRPr b="0" lang="en-US" sz="4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450720" y="262080"/>
            <a:ext cx="8242560" cy="1407960"/>
          </a:xfrm>
          <a:prstGeom prst="rect">
            <a:avLst/>
          </a:prstGeom>
          <a:ln w="0">
            <a:noFill/>
          </a:ln>
        </p:spPr>
      </p:pic>
      <p:sp>
        <p:nvSpPr>
          <p:cNvPr id="33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Blocheaza secretia hormonilor din creier care induc ovulatia, ca urmare este anulata ovulati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nhibitia ovulatiei se realizeaza cu cantitati mari de progesteron – care produce f multe reactii advers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Modificarea mucusului uterin, prin ingrosarea acestui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mpiedicarea penetrarii ovululu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262080"/>
            <a:ext cx="8242560" cy="1407960"/>
          </a:xfrm>
          <a:prstGeom prst="rect">
            <a:avLst/>
          </a:prstGeom>
          <a:ln w="0">
            <a:noFill/>
          </a:ln>
        </p:spPr>
      </p:pic>
      <p:sp>
        <p:nvSpPr>
          <p:cNvPr id="33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Uscarea mucoasei uterine care hraneste copilu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Mucoasa uterina nu mai secreta substantele necesare hranirii copilului</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ncetinirea transportului oului prin inhibarea miscarilor trompelor – oul nu va ajunge la timp si se va usca, deci va fi avorta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420840" y="96840"/>
            <a:ext cx="8242200" cy="1347840"/>
          </a:xfrm>
          <a:prstGeom prst="rect">
            <a:avLst/>
          </a:prstGeom>
          <a:ln w="0">
            <a:noFill/>
          </a:ln>
        </p:spPr>
      </p:pic>
      <p:sp>
        <p:nvSpPr>
          <p:cNvPr id="336" name=""/>
          <p:cNvSpPr txBox="1"/>
          <p:nvPr/>
        </p:nvSpPr>
        <p:spPr>
          <a:xfrm>
            <a:off x="457200" y="1882800"/>
            <a:ext cx="8229600" cy="4572000"/>
          </a:xfrm>
          <a:prstGeom prst="rect">
            <a:avLst/>
          </a:prstGeom>
          <a:noFill/>
          <a:ln w="0">
            <a:noFill/>
          </a:ln>
        </p:spPr>
        <p:txBody>
          <a:bodyPr anchor="t">
            <a:normAutofit fontScale="98000"/>
          </a:bodyPr>
          <a:p>
            <a:pPr marL="438840" indent="-37476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Asupra aparatului cardio-vascular:</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Favorizeaza aparitia bolilor venoase si arteriale</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50-75% din cazurile de tromboflebita profunda</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Afectarea arterelor: creste riscul trombozelor arteriale cu 4,4% si al bolii Raynaud cu 1,7%</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Favorizeaza mortalitatea prin infarct miocardic</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Favorizeaza aparitia hipertensiunii arteriale</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22400"/>
            <a:ext cx="8242560" cy="1547640"/>
          </a:xfrm>
          <a:prstGeom prst="rect">
            <a:avLst/>
          </a:prstGeom>
          <a:ln w="0">
            <a:noFill/>
          </a:ln>
        </p:spPr>
      </p:pic>
      <p:sp>
        <p:nvSpPr>
          <p:cNvPr id="33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reste colesterolul, favorizand aparitua aterosclerozei (estrogen), de aceea s-a scazut mereu cantitatea de estrogen, folosindu-se mai mult progesteron – care are efect abortiv</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cade toleranta la glucoza – favorizeaza aparitia diabetului clinic</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450720" y="122400"/>
            <a:ext cx="8242560" cy="1547640"/>
          </a:xfrm>
          <a:prstGeom prst="rect">
            <a:avLst/>
          </a:prstGeom>
          <a:ln w="0">
            <a:noFill/>
          </a:ln>
        </p:spPr>
      </p:pic>
      <p:sp>
        <p:nvSpPr>
          <p:cNvPr id="340"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avorizeaza aparitia chisturilor</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fectul hormonilor asupra ovarului este complex – apar tulburari de ciclu menstrual</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fectul sterilizant – mai ales dupa 5 ani de consum, dar apare deseori si dupa 1 an, la fetele tinere</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strogenul si progesteronul stimuleaza tiroida excesiv</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reste riscul sarcilor ectopice (in afara uterului)</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0720" y="262080"/>
            <a:ext cx="8242560" cy="1407960"/>
          </a:xfrm>
          <a:prstGeom prst="rect">
            <a:avLst/>
          </a:prstGeom>
          <a:ln w="0">
            <a:noFill/>
          </a:ln>
        </p:spPr>
      </p:pic>
      <p:sp>
        <p:nvSpPr>
          <p:cNvPr id="342"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ureri de cap</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caderea libidoului</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epresie nervoasa</a:t>
            </a:r>
            <a:endParaRPr b="0" lang="en-US" sz="2800" spc="-1" strike="noStrike">
              <a:solidFill>
                <a:srgbClr val="ffffff"/>
              </a:solidFill>
              <a:latin typeface="Century Gothic"/>
            </a:endParaRPr>
          </a:p>
          <a:p>
            <a:pPr marL="4478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 nu a fost explicata. Unii autori considera ca ea apare atat datorita faptului ca femeia constientizeaza faptul ca este privata de dreptul ei de a fi mama, cat si datorita faptului ca C.O, produc nenumarate avorturi, fapt care desi nu este constientizat lasa urme adanci in psihicul femeii ca urmare a unui mare pac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ounded Rectangle 14" descr=""/>
          <p:cNvPicPr/>
          <p:nvPr/>
        </p:nvPicPr>
        <p:blipFill>
          <a:blip r:embed="rId1"/>
          <a:stretch/>
        </p:blipFill>
        <p:spPr>
          <a:xfrm>
            <a:off x="1951200" y="-347760"/>
            <a:ext cx="4582800" cy="2279880"/>
          </a:xfrm>
          <a:prstGeom prst="rect">
            <a:avLst/>
          </a:prstGeom>
          <a:ln w="0">
            <a:noFill/>
          </a:ln>
        </p:spPr>
      </p:pic>
      <p:sp>
        <p:nvSpPr>
          <p:cNvPr id="311" name="TextBox 4"/>
          <p:cNvSpPr/>
          <p:nvPr/>
        </p:nvSpPr>
        <p:spPr>
          <a:xfrm>
            <a:off x="996840" y="1484280"/>
            <a:ext cx="7767720" cy="39344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and incepe viata</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e este avortul</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devarul despre contraceptie</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spre BTS</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goste si sexualitate</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spre turma mass-media</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amil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0720" y="262080"/>
            <a:ext cx="8242560" cy="1407960"/>
          </a:xfrm>
          <a:prstGeom prst="rect">
            <a:avLst/>
          </a:prstGeom>
          <a:ln w="0">
            <a:noFill/>
          </a:ln>
        </p:spPr>
      </p:pic>
      <p:sp>
        <p:nvSpPr>
          <p:cNvPr id="34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czem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Urticari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dem alergic</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paritia parului in exces (progestero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ranspiratii abundente (progestero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cne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erpes si alte boli datorate interactiunii celor 2 hormon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262080"/>
            <a:ext cx="8242560" cy="1407960"/>
          </a:xfrm>
          <a:prstGeom prst="rect">
            <a:avLst/>
          </a:prstGeom>
          <a:ln w="0">
            <a:noFill/>
          </a:ln>
        </p:spPr>
      </p:pic>
      <p:sp>
        <p:nvSpPr>
          <p:cNvPr id="346"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ezliprea de retina cu orbire, este o complicatie majora datorata problemelor de circulatie la nivelul ochiulu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cade apararea organismului la infectii, organismul reactioneaza impotriva unor structuri propri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450720" y="262080"/>
            <a:ext cx="8242560" cy="1407960"/>
          </a:xfrm>
          <a:prstGeom prst="rect">
            <a:avLst/>
          </a:prstGeom>
          <a:ln w="0">
            <a:noFill/>
          </a:ln>
        </p:spPr>
      </p:pic>
      <p:sp>
        <p:nvSpPr>
          <p:cNvPr id="350"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relucreaza si stocheaza hormoni in exces, provocand diverse tulburari la nivelui lui</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 constata un efect toxic al estrogenului</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ste afectata bila, si cresterea colesterolului</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avorizeaza aparitia hepatitei cronice asimptomatice</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umora benigna de fica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450720" y="262080"/>
            <a:ext cx="8242560" cy="140796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avorizeaza aparitia cancerului de san, de col uterin, de ficat si de piel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paritia cancerului este favorizata de nasteri la varsta de peste 35 de ani, la cele cu avorturi multe sau la femeile care au consumat timp indelungat C.O. (8-10 an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450720" y="262080"/>
            <a:ext cx="8242560" cy="1407960"/>
          </a:xfrm>
          <a:prstGeom prst="rect">
            <a:avLst/>
          </a:prstGeom>
          <a:ln w="0">
            <a:noFill/>
          </a:ln>
        </p:spPr>
      </p:pic>
      <p:sp>
        <p:nvSpPr>
          <p:cNvPr id="354" name=""/>
          <p:cNvSpPr txBox="1"/>
          <p:nvPr/>
        </p:nvSpPr>
        <p:spPr>
          <a:xfrm>
            <a:off x="457200" y="1882800"/>
            <a:ext cx="8229600" cy="4572000"/>
          </a:xfrm>
          <a:prstGeom prst="rect">
            <a:avLst/>
          </a:prstGeom>
          <a:noFill/>
          <a:ln w="0">
            <a:noFill/>
          </a:ln>
        </p:spPr>
        <p:txBody>
          <a:bodyPr anchor="t">
            <a:normAutofit/>
          </a:bodyPr>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ste neinsemnat in comparatie cu efectele lor secundare.</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Rezolva afectiuni precum sindromul pre-menstrual, dar tot literatura de specialitate ne arata ca dupa un timp mai indelungat, consumul C.O. favorizeaza aparitia chisturilor ovariene si tulburari de ciclu…se formeaza un cerc vicios si la un moment dat C.O. chiar intretin afectiunea pentru care s-au administr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95120" y="262080"/>
            <a:ext cx="8498160" cy="1407960"/>
          </a:xfrm>
          <a:prstGeom prst="rect">
            <a:avLst/>
          </a:prstGeom>
          <a:ln w="0">
            <a:noFill/>
          </a:ln>
        </p:spPr>
      </p:pic>
      <p:sp>
        <p:nvSpPr>
          <p:cNvPr id="356"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Se adninistreaza in primele 72 de ore de la contactul sexua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Este ABORTIV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Efecte secundare: varsaturi, dureri de cap, dureri de san, hemoragii</a:t>
            </a:r>
            <a:endParaRPr b="0" lang="en-US" sz="3000" spc="-1" strike="noStrike">
              <a:solidFill>
                <a:srgbClr val="ffffff"/>
              </a:solidFill>
              <a:latin typeface="Century Gothic"/>
            </a:endParaRPr>
          </a:p>
          <a:p>
            <a:pPr marL="447840" indent="-38268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entury Gothic"/>
            </a:endParaRPr>
          </a:p>
          <a:p>
            <a:pPr marL="447840" indent="-38268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entury Gothic"/>
            </a:endParaRPr>
          </a:p>
          <a:p>
            <a:pPr marL="447840" indent="-38268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In realitate…</a:t>
            </a:r>
            <a:endParaRPr b="0" lang="en-US" sz="3000" spc="-1" strike="noStrike">
              <a:solidFill>
                <a:srgbClr val="ffffff"/>
              </a:solidFill>
              <a:latin typeface="Century Gothic"/>
            </a:endParaRPr>
          </a:p>
        </p:txBody>
      </p:sp>
      <p:pic>
        <p:nvPicPr>
          <p:cNvPr id="357" name="Picture 14" descr="C:\Users\Victor\Desktop\pilula.jpg"/>
          <p:cNvPicPr/>
          <p:nvPr/>
        </p:nvPicPr>
        <p:blipFill>
          <a:blip r:embed="rId2"/>
          <a:stretch/>
        </p:blipFill>
        <p:spPr>
          <a:xfrm>
            <a:off x="0" y="-291960"/>
            <a:ext cx="9144000" cy="724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95120" y="262080"/>
            <a:ext cx="849816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anchor="t">
            <a:normAutofit fontScale="91000"/>
          </a:bodyPr>
          <a:p>
            <a:pPr marL="407520" indent="-348120">
              <a:spcBef>
                <a:spcPts val="751"/>
              </a:spcBef>
              <a:buClr>
                <a:srgbClr val="ff388c"/>
              </a:buClr>
              <a:buSzPct val="8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Conceptia deja a avut loc, embrionul format se afla la nivelul trompei uterine si incepe migrarea spre uter, dar doza mare de hormoni (valabila pentru cateva luni, in mod normal) incetineste miscarile trompei uterine pentru a nu putea inainta copilul, se usuca glandele care hranesc copilul si acesta nu se mai poate hrani, daca totusi supravietuieste pana in uter aici nu se va mai putea nida, negasind conditiile prielnice – AVORT HORMONAL</a:t>
            </a:r>
            <a:endParaRPr b="0" lang="en-US" sz="3000" spc="-1" strike="noStrike">
              <a:solidFill>
                <a:srgbClr val="ffffff"/>
              </a:solidFill>
              <a:latin typeface="Century Gothic"/>
            </a:endParaRPr>
          </a:p>
        </p:txBody>
      </p:sp>
      <p:pic>
        <p:nvPicPr>
          <p:cNvPr id="360" name="Picture 4" descr="C:\Users\Victor\Desktop\in-realitate-copil.jpg"/>
          <p:cNvPicPr/>
          <p:nvPr/>
        </p:nvPicPr>
        <p:blipFill>
          <a:blip r:embed="rId2"/>
          <a:stretch/>
        </p:blipFill>
        <p:spPr>
          <a:xfrm>
            <a:off x="0" y="0"/>
            <a:ext cx="9358200" cy="6945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0720" y="262080"/>
            <a:ext cx="8242560" cy="1407960"/>
          </a:xfrm>
          <a:prstGeom prst="rect">
            <a:avLst/>
          </a:prstGeom>
          <a:ln w="0">
            <a:noFill/>
          </a:ln>
        </p:spPr>
      </p:pic>
      <p:sp>
        <p:nvSpPr>
          <p:cNvPr id="36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ste ABORTIV</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mpiedica nidatia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fecte secundare multipl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Un parinte compara acest sterilet cu “un sarpe care suge sangele copilul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itle 1" descr=""/>
          <p:cNvPicPr/>
          <p:nvPr/>
        </p:nvPicPr>
        <p:blipFill>
          <a:blip r:embed="rId1"/>
          <a:stretch/>
        </p:blipFill>
        <p:spPr>
          <a:xfrm>
            <a:off x="450720" y="103320"/>
            <a:ext cx="8242560" cy="2828880"/>
          </a:xfrm>
          <a:prstGeom prst="rect">
            <a:avLst/>
          </a:prstGeom>
          <a:ln w="0">
            <a:noFill/>
          </a:ln>
        </p:spPr>
      </p:pic>
      <p:sp>
        <p:nvSpPr>
          <p:cNvPr id="364" name=""/>
          <p:cNvSpPr txBox="1"/>
          <p:nvPr/>
        </p:nvSpPr>
        <p:spPr>
          <a:xfrm>
            <a:off x="571680" y="3499920"/>
            <a:ext cx="8229600" cy="3357720"/>
          </a:xfrm>
          <a:prstGeom prst="rect">
            <a:avLst/>
          </a:prstGeom>
          <a:noFill/>
          <a:ln w="0">
            <a:noFill/>
          </a:ln>
        </p:spPr>
        <p:txBody>
          <a:bodyPr anchor="t">
            <a:normAutofit/>
          </a:bodyPr>
          <a:p>
            <a:pPr marL="447840" indent="-3826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Century Gothic"/>
              </a:rPr>
              <a:t>ABSTINENTA</a:t>
            </a:r>
            <a:endParaRPr b="0" lang="en-US" sz="10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64">
                                            <p:txEl>
                                              <p:pRg st="0" end="0"/>
                                            </p:txEl>
                                          </p:spTgt>
                                        </p:tgtEl>
                                        <p:attrNameLst>
                                          <p:attrName>style.visibility</p:attrName>
                                        </p:attrNameLst>
                                      </p:cBhvr>
                                      <p:to>
                                        <p:strVal val="visible"/>
                                      </p:to>
                                    </p:set>
                                    <p:animEffect filter="fade" transition="in">
                                      <p:cBhvr additive="repl">
                                        <p:cTn id="7" dur="20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95120" y="262080"/>
            <a:ext cx="8498160" cy="1407960"/>
          </a:xfrm>
          <a:prstGeom prst="rect">
            <a:avLst/>
          </a:prstGeom>
          <a:ln w="0">
            <a:noFill/>
          </a:ln>
        </p:spPr>
      </p:pic>
      <p:pic>
        <p:nvPicPr>
          <p:cNvPr id="313" name="Content Placeholder 3" descr=""/>
          <p:cNvPicPr/>
          <p:nvPr/>
        </p:nvPicPr>
        <p:blipFill>
          <a:blip r:embed="rId2"/>
          <a:stretch/>
        </p:blipFill>
        <p:spPr>
          <a:xfrm>
            <a:off x="353880" y="1835280"/>
            <a:ext cx="844884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450720" y="262080"/>
            <a:ext cx="8242560" cy="1407960"/>
          </a:xfrm>
          <a:prstGeom prst="rect">
            <a:avLst/>
          </a:prstGeom>
          <a:ln w="0">
            <a:noFill/>
          </a:ln>
        </p:spPr>
      </p:pic>
      <p:sp>
        <p:nvSpPr>
          <p:cNvPr id="366" name=""/>
          <p:cNvSpPr txBox="1"/>
          <p:nvPr/>
        </p:nvSpPr>
        <p:spPr>
          <a:xfrm>
            <a:off x="457200" y="1599840"/>
            <a:ext cx="8229600" cy="2328840"/>
          </a:xfrm>
          <a:prstGeom prst="rect">
            <a:avLst/>
          </a:prstGeom>
          <a:noFill/>
          <a:ln w="0">
            <a:noFill/>
          </a:ln>
        </p:spPr>
        <p:txBody>
          <a:bodyPr anchor="t">
            <a:normAutofit/>
          </a:bodyPr>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entury Gothic"/>
              </a:rPr>
              <a:t>PENTRU DRAGOSTE</a:t>
            </a:r>
            <a:endParaRPr b="0" lang="en-US" sz="6200" spc="-1" strike="noStrike">
              <a:solidFill>
                <a:srgbClr val="ffffff"/>
              </a:solidFill>
              <a:latin typeface="Century Gothic"/>
            </a:endParaRPr>
          </a:p>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entury Gothic"/>
              </a:rPr>
              <a:t>PENTRU VIATA</a:t>
            </a:r>
            <a:endParaRPr b="0" lang="en-US" sz="6200" spc="-1" strike="noStrike">
              <a:solidFill>
                <a:srgbClr val="ffffff"/>
              </a:solidFill>
              <a:latin typeface="Century Gothic"/>
            </a:endParaRPr>
          </a:p>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entury Gothic"/>
            </a:endParaRPr>
          </a:p>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entury Gothic"/>
            </a:endParaRPr>
          </a:p>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entury Gothic"/>
            </a:endParaRPr>
          </a:p>
        </p:txBody>
      </p:sp>
      <p:pic>
        <p:nvPicPr>
          <p:cNvPr id="367" name="Picture 4" descr="C:\Users\roxi 20 ani\Desktop\Scortisoara\PRO-VITA\pozne\provita.JPG"/>
          <p:cNvPicPr/>
          <p:nvPr/>
        </p:nvPicPr>
        <p:blipFill>
          <a:blip r:embed="rId2"/>
          <a:stretch/>
        </p:blipFill>
        <p:spPr>
          <a:xfrm>
            <a:off x="1714680" y="4500720"/>
            <a:ext cx="5972040" cy="1800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67"/>
                                        </p:tgtEl>
                                        <p:attrNameLst>
                                          <p:attrName>style.visibility</p:attrName>
                                        </p:attrNameLst>
                                      </p:cBhvr>
                                      <p:to>
                                        <p:strVal val="visible"/>
                                      </p:to>
                                    </p:set>
                                    <p:animEffect filter="fade" transition="in">
                                      <p:cBhvr additive="repl">
                                        <p:cTn id="14" dur="5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0059"/>
        </a:solidFill>
      </p:bgPr>
    </p:bg>
    <p:spTree>
      <p:nvGrpSpPr>
        <p:cNvPr id="1" name=""/>
        <p:cNvGrpSpPr/>
        <p:nvPr/>
      </p:nvGrpSpPr>
      <p:grpSpPr>
        <a:xfrm>
          <a:off x="0" y="0"/>
          <a:ext cx="0" cy="0"/>
          <a:chOff x="0" y="0"/>
          <a:chExt cx="0" cy="0"/>
        </a:xfrm>
      </p:grpSpPr>
      <p:sp>
        <p:nvSpPr>
          <p:cNvPr id="314" name=""/>
          <p:cNvSpPr txBox="1"/>
          <p:nvPr/>
        </p:nvSpPr>
        <p:spPr>
          <a:xfrm>
            <a:off x="837720" y="764640"/>
            <a:ext cx="8007480" cy="5256360"/>
          </a:xfrm>
          <a:prstGeom prst="rect">
            <a:avLst/>
          </a:prstGeom>
          <a:noFill/>
          <a:ln w="0">
            <a:noFill/>
          </a:ln>
        </p:spPr>
        <p:txBody>
          <a:bodyPr anchor="t">
            <a:normAutofit/>
          </a:bodyPr>
          <a:p>
            <a:pPr marL="4478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478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47840" indent="-382680" algn="ct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entury Gothic"/>
              </a:rPr>
              <a:t>Ce </a:t>
            </a:r>
            <a:r>
              <a:rPr b="1" lang="en-US" sz="14400" spc="-1" strike="noStrike">
                <a:solidFill>
                  <a:srgbClr val="ffffff"/>
                </a:solidFill>
                <a:latin typeface="Century Gothic"/>
                <a:ea typeface="Times New Roman"/>
              </a:rPr>
              <a:t>ş</a:t>
            </a:r>
            <a:r>
              <a:rPr b="1" lang="en-US" sz="14400" spc="-1" strike="noStrike">
                <a:solidFill>
                  <a:srgbClr val="ffffff"/>
                </a:solidFill>
                <a:latin typeface="Century Gothic"/>
              </a:rPr>
              <a:t>tim?</a:t>
            </a:r>
            <a:endParaRPr b="0" lang="en-US" sz="14400" spc="-1" strike="noStrike">
              <a:solidFill>
                <a:srgbClr val="ffffff"/>
              </a:solidFill>
              <a:latin typeface="Century Gothic"/>
            </a:endParaRPr>
          </a:p>
          <a:p>
            <a:pPr marL="447840" indent="-3826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au</a:t>
            </a:r>
            <a:endParaRPr b="0" lang="en-US" sz="1800" spc="-1" strike="noStrike">
              <a:solidFill>
                <a:srgbClr val="ffffff"/>
              </a:solidFill>
              <a:latin typeface="Century Gothic"/>
            </a:endParaRPr>
          </a:p>
          <a:p>
            <a:pPr marL="4478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e ni se spune?</a:t>
            </a:r>
            <a:endParaRPr b="0" lang="en-US" sz="2800" spc="-1" strike="noStrike">
              <a:solidFill>
                <a:srgbClr val="ffffff"/>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0059"/>
        </a:solidFill>
      </p:bgPr>
    </p:bg>
    <p:spTree>
      <p:nvGrpSpPr>
        <p:cNvPr id="1" name=""/>
        <p:cNvGrpSpPr/>
        <p:nvPr/>
      </p:nvGrpSpPr>
      <p:grpSpPr>
        <a:xfrm>
          <a:off x="0" y="0"/>
          <a:ext cx="0" cy="0"/>
          <a:chOff x="0" y="0"/>
          <a:chExt cx="0" cy="0"/>
        </a:xfrm>
      </p:grpSpPr>
      <p:sp>
        <p:nvSpPr>
          <p:cNvPr id="315" name=""/>
          <p:cNvSpPr txBox="1"/>
          <p:nvPr/>
        </p:nvSpPr>
        <p:spPr>
          <a:xfrm>
            <a:off x="-252720" y="691920"/>
            <a:ext cx="9937800" cy="5438520"/>
          </a:xfrm>
          <a:prstGeom prst="rect">
            <a:avLst/>
          </a:prstGeom>
          <a:noFill/>
          <a:ln w="0">
            <a:noFill/>
          </a:ln>
        </p:spPr>
        <p:txBody>
          <a:bodyPr anchor="t">
            <a:normAutofit/>
          </a:bodyPr>
          <a:p>
            <a:pPr marL="447840" indent="-382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a:p>
            <a:pPr marL="447840" indent="-382680"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500" spc="-1" strike="noStrike">
                <a:solidFill>
                  <a:srgbClr val="ffffff"/>
                </a:solidFill>
                <a:latin typeface="Century Gothic"/>
              </a:rPr>
              <a:t>Ce nu </a:t>
            </a:r>
            <a:r>
              <a:rPr b="1" lang="en-US" sz="12500" spc="-1" strike="noStrike">
                <a:solidFill>
                  <a:srgbClr val="ffffff"/>
                </a:solidFill>
                <a:latin typeface="Century Gothic"/>
                <a:ea typeface="Times New Roman"/>
              </a:rPr>
              <a:t>ş</a:t>
            </a:r>
            <a:r>
              <a:rPr b="1" lang="en-US" sz="12500" spc="-1" strike="noStrike">
                <a:solidFill>
                  <a:srgbClr val="ffffff"/>
                </a:solidFill>
                <a:latin typeface="Century Gothic"/>
              </a:rPr>
              <a:t>tim?</a:t>
            </a:r>
            <a:endParaRPr b="0" lang="en-US" sz="12500" spc="-1" strike="noStrike">
              <a:solidFill>
                <a:srgbClr val="ffffff"/>
              </a:solidFill>
              <a:latin typeface="Century Gothic"/>
            </a:endParaRPr>
          </a:p>
          <a:p>
            <a:pPr marL="447840" indent="-3826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entury Gothic"/>
              </a:rPr>
              <a:t>sau</a:t>
            </a:r>
            <a:endParaRPr b="0" lang="en-US" sz="1900" spc="-1" strike="noStrike">
              <a:solidFill>
                <a:srgbClr val="ffffff"/>
              </a:solidFill>
              <a:latin typeface="Century Gothic"/>
            </a:endParaRPr>
          </a:p>
          <a:p>
            <a:pPr marL="447840" indent="-382680"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Century Gothic"/>
              </a:rPr>
              <a:t>Ce nu vor sa </a:t>
            </a:r>
            <a:r>
              <a:rPr b="1" lang="en-US" sz="4100" spc="-1" strike="noStrike">
                <a:solidFill>
                  <a:srgbClr val="ffffff"/>
                </a:solidFill>
                <a:latin typeface="Century Gothic"/>
                <a:ea typeface="Times New Roman"/>
              </a:rPr>
              <a:t>ştim</a:t>
            </a:r>
            <a:r>
              <a:rPr b="1" lang="en-US" sz="4100" spc="-1" strike="noStrike">
                <a:solidFill>
                  <a:srgbClr val="ffffff"/>
                </a:solidFill>
                <a:latin typeface="Century Gothic"/>
              </a:rPr>
              <a:t>?</a:t>
            </a:r>
            <a:endParaRPr b="0" lang="en-US" sz="4100" spc="-1" strike="noStrike">
              <a:solidFill>
                <a:srgbClr val="ffffff"/>
              </a:solidFill>
              <a:latin typeface="Century Gothic"/>
            </a:endParaRPr>
          </a:p>
          <a:p>
            <a:pPr marL="447840" indent="-382680"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263520" y="333360"/>
            <a:ext cx="7386480" cy="6191280"/>
          </a:xfrm>
          <a:prstGeom prst="rect">
            <a:avLst/>
          </a:prstGeom>
          <a:noFill/>
          <a:ln w="0">
            <a:noFill/>
          </a:ln>
        </p:spPr>
        <p:txBody>
          <a:bodyPr anchor="t">
            <a:normAutofit/>
          </a:bodyPr>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ffffff"/>
              </a:solidFill>
              <a:latin typeface="Century Gothic"/>
            </a:endParaRPr>
          </a:p>
        </p:txBody>
      </p:sp>
      <p:sp>
        <p:nvSpPr>
          <p:cNvPr id="317" name="Text Box 5"/>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etode “contraceptive”:</a:t>
            </a:r>
            <a:endParaRPr b="0" lang="en-US" sz="48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ode naturale - </a:t>
            </a:r>
            <a:r>
              <a:rPr b="1" lang="en-US" sz="3200" spc="-1" strike="noStrike">
                <a:solidFill>
                  <a:srgbClr val="ffffff"/>
                </a:solidFill>
                <a:latin typeface="Times New Roman"/>
              </a:rPr>
              <a:t>contraceptive</a:t>
            </a:r>
            <a:endParaRPr b="0" lang="en-US" sz="3200" spc="-1" strike="noStrike">
              <a:solidFill>
                <a:srgbClr val="ffffff"/>
              </a:solidFill>
              <a:latin typeface="Times New Roman"/>
            </a:endParaRPr>
          </a:p>
          <a:p>
            <a:pPr marL="343080" indent="-3430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ode de bariera (locale) - </a:t>
            </a:r>
            <a:r>
              <a:rPr b="1" lang="en-US" sz="3200" spc="-1" strike="noStrike">
                <a:solidFill>
                  <a:srgbClr val="ffffff"/>
                </a:solidFill>
                <a:latin typeface="Times New Roman"/>
              </a:rPr>
              <a:t>contraceptive</a:t>
            </a:r>
            <a:endParaRPr b="0" lang="en-US" sz="3200" spc="-1" strike="noStrike">
              <a:solidFill>
                <a:srgbClr val="ffffff"/>
              </a:solidFill>
              <a:latin typeface="Times New Roman"/>
            </a:endParaRPr>
          </a:p>
          <a:p>
            <a:pPr marL="343080" indent="-3430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aceptia  hormonala feminina – </a:t>
            </a:r>
            <a:r>
              <a:rPr b="1" lang="en-US" sz="3200" spc="-1" strike="noStrike">
                <a:solidFill>
                  <a:srgbClr val="ffffff"/>
                </a:solidFill>
                <a:latin typeface="Times New Roman"/>
              </a:rPr>
              <a:t>contraceptive  </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i abortive</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D.I.U. (steriletul) - </a:t>
            </a:r>
            <a:r>
              <a:rPr b="1" lang="en-US" sz="3200" spc="-1" strike="noStrike">
                <a:solidFill>
                  <a:srgbClr val="ffffff"/>
                </a:solidFill>
                <a:latin typeface="Times New Roman"/>
              </a:rPr>
              <a:t>abortiv</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nti-hormoni – RU 486 – </a:t>
            </a:r>
            <a:r>
              <a:rPr b="1" lang="en-US" sz="3200" spc="-1" strike="noStrike">
                <a:solidFill>
                  <a:srgbClr val="ffffff"/>
                </a:solidFill>
                <a:latin typeface="Times New Roman"/>
              </a:rPr>
              <a:t>abortiv</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Vaccinuri – </a:t>
            </a:r>
            <a:r>
              <a:rPr b="1" lang="en-US" sz="3200" spc="-1" strike="noStrike">
                <a:solidFill>
                  <a:srgbClr val="ffffff"/>
                </a:solidFill>
                <a:latin typeface="Times New Roman"/>
              </a:rPr>
              <a:t>contraceptive/abortive</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 Sterilizarea chirurgicala voluntara – </a:t>
            </a:r>
            <a:r>
              <a:rPr b="1" lang="en-US" sz="3200" spc="-1" strike="noStrike">
                <a:solidFill>
                  <a:srgbClr val="ffffff"/>
                </a:solidFill>
                <a:latin typeface="Times New Roman"/>
              </a:rPr>
              <a:t>contraceptie     </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finitiva</a:t>
            </a:r>
            <a:endParaRPr b="0" lang="en-US" sz="32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158760" y="274680"/>
            <a:ext cx="8942400" cy="632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450720" y="274680"/>
            <a:ext cx="8302680" cy="632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450720" y="274680"/>
            <a:ext cx="8693280" cy="632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12:08:25Z</dcterms:created>
  <dc:creator>Dream</dc:creator>
  <dc:description/>
  <dc:language>en-US</dc:language>
  <cp:lastModifiedBy>noi5</cp:lastModifiedBy>
  <dcterms:modified xsi:type="dcterms:W3CDTF">2009-10-21T07:26:34Z</dcterms:modified>
  <cp:revision>57</cp:revision>
  <dc:subject/>
  <dc:title>Slide 1</dc:title>
</cp:coreProperties>
</file>