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DC89-1599-4C00-B6E9-C883CCBC80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A5E7-39E2-458C-BCCF-3E4751BAFCBB}"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Clasa ar trebui să fie pregătită înainte de începerea orei. Proiectorul şi planşa puse pe poziţie. Veniţi şi cu cărţi, gen Danion Vasile, pentru tineri, ce alegeţi voi. Ideal ar fi să le treceţi prin faţa nasului, “aici găsiţi multe idei frumoase şi interesante, dacă vreţi să aflaţi mai multe despre ce vă vorbesc”. E posibil să le vrea, şi dacă le vor e posibil să le aducă înapoi, e posibil să nu. Punem la punct o mică listă de cărţi de luat cu noi.</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În clasă mai trebuie două bannere, unul cu sigla Pro-Vita şi unul cu una de la campanie.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NU TREBUIE ÎN NICI UN CAZ SĂ SE AŞEZE ÎN BĂNCI, DACĂ SALA E CU BĂNCI. Le spuneţi să se aşeze pe ce vor ei, pe mese, pe bănci, pe jos, oricum, dar nu în bănci ca în mod normal. Ideal ar fi ca sala să fie ciudată de la bun început, să poţi pune tu scaunele cum vrei. În cazul acesta cea mai bună idee este în cerc, cu proiectorul fie într-o parte, fie în faţă. Ce se vede pe laptop e bine să fie separat, şi pus deoparte puţin. </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r fi frumos ca atunci când intră în clasă să se audă muzică, să nu intre ca la o oră obişnuită, să fie deja o atmosferă deosebită, altfel.</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mosfera se poate destinde la început prin o introducere simplă, gen “de unde veniţi?”, “ce oră aţi avut înainte?”, “ce ore faceţi în mod normal în sala asta?”. Ceva să-i trezeşti din amorţeală, să înceapă o mică discuţie, o mică comunicare, cev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poţi să-i întrebi dacă le-a zis profesorul ce va avea loc în ora asta, măcar e un început să ştii cu ce idei au venit. Vă prezentaţi amândoi, veniţi de la “provita bucureşti”. Poţi să-i întrebi dacă ştiu ce înseamnă provita, spre exemplu</a:t>
            </a:r>
            <a:r>
              <a:rPr b="0" lang="ro-RO" sz="1200" spc="-1" strike="noStrike">
                <a:solidFill>
                  <a:srgbClr val="000000"/>
                </a:solidFill>
                <a:latin typeface="Wingdings"/>
                <a:ea typeface="Wingdings"/>
              </a:rPr>
              <a:t></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merge ideea cu regulile. Pui foaia de flipchart lângă tine, plus un marker: “Următoarele cursuri nu vor fi tocmai ca orele cu care sunteţi obişnuiţi. O idee bună ar fi, ca să ne înţelegem bine şi frumos, să stabilim toţi acum nişte idei de urmat de toată lumea.” Apoi le propui să vină cu reguli pe care să le respecte toţi. Să vină şi de la ei. Fie că vin, fie că nu vin de la ei, trebuie urmărite următoarel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dacă sună mobilul nu fac crize, nu întreb nimic, ci doar ies afară din clasă dacă vreau să vorbesc”.</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nu râdem de altul”. “Nimeni nu se simte bine în astfel de cazuri. Va fi poate dificil să ne înţelegem, mai bine ne ajutăm decât să ne împiedicăm unul de altul.” “râdem cu cineva, nu de cinev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t>
            </a:r>
            <a:r>
              <a:rPr b="0" lang="ro-RO" sz="1200" spc="-1" strike="noStrike">
                <a:solidFill>
                  <a:srgbClr val="000000"/>
                </a:solidFill>
                <a:latin typeface="Arial"/>
              </a:rPr>
              <a:t>fără judecăţi de valoare”. “În termeni simpli, fără ce naşpa eşti tu! Ori ce prostie ai zis!”</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poi întrebare simplă, “Despre ce vom vorbi?”</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Acest efect, abortiv, este specificat şi pe prospectul de la pilulele anticoncepţionale. Dar nu este în nici un caz spus foarte clar, pur şi simplu pentru că nimeni nu ar vrea asta. Nu e un efect dorit. Iar pilulele anticoncepţionale sunt cele ce au dat cel mai mare profit pentru industria farmaceutică, acum doi sau trei ani... În ce măsură se produce, în ce măsură are loc, care e procentajul, nu s-a determinat, testarea ar implica cooperarea acelorlaşi firme care le produc. Cert e că se produc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50F1-394B-4C70-991C-207B9A319F9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Io la acest capitol as baga ceva si despre masturbare… inca nu stiu ce si in ce forma, dar as baga asta… de obicei mai ramane timp si mai pot fi discutate multe… Puteti sa faceti si sedinta de intrebari si asa mai departe. Din pacate aici nu am filmul, dar e bun de arata de pe youtube Abortifacticed (parca se numeste asa… nu mai stiu sigur, ceva de genu… in care arata ce face pilula, sunt sigiura ca stii si tu mai multe de felul asta). Ca sa incheiati intr-un fel rotund intreaga incursiune, poti la fel de bine sa reamintesti discutia din prima zi despre iubire. Intreaba-i daca asta e iubirea si daca nu cumva oprirea fructului firesc care vine din ea, de fapt o distruge. Ar fi minunat sa ajunga si ei la concluzia asta. Doamne ajuta. As fi vrut mult sa fiu langa voi.</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B58D-15F3-40D4-888C-AAB1E308AA5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Ce înseamnă</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EE35-C414-45CA-B977-649526EDA13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41BE-2E33-4F7B-9B93-21DDC492391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Explicaţie ce înseamnă 3-5%: dacă ai făcut sex de 20 de ori, e probabil să concepi un copil.</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Noxinol este o substanţă ce apare în prezervative, ce produce iritaţii, posibil cancer. E folosit ca spermicid, e substanţă menită să distrugă celule...</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Gaura standard, sper că ştiţi</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178C-F551-4C48-A753-A223E7F6125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Le explici pentru început ce vorbisem la concepţie, cum anume apare bebe, pe unde se plimbă ovulul şi spermatozoizii.</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Le explici ce se întâmplă, la primele trei efecte. Le spui că hormonii sunt sintetizaţi artificial, şi că vei reveni asupra acestui aspect.</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Ideea cu care-i faza este că dacă primele două efecte sunt suficiente, ce e cu ultimul? Care e diferenţa?</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Diferenţa este că înainte de concepţie e vorba de doi oameni, după concepţie e vorba de 3.</a:t>
            </a:r>
            <a:endParaRPr b="0" lang="en-US" sz="1200" spc="-1" strike="noStrike">
              <a:solidFill>
                <a:srgbClr val="000000"/>
              </a:solidFill>
              <a:latin typeface="Arial"/>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 spc="-1" strike="noStrike">
                <a:solidFill>
                  <a:srgbClr val="000000"/>
                </a:solidFill>
                <a:latin typeface="Arial"/>
              </a:rPr>
              <a:t>Dacă primele două efecte nu au loc, adică nu este prevenită concepţia, atunci apare bebe. Care e cu totul altceva.</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1CAD-1C1B-43FE-9658-2FFC3F70C23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07570-40D5-49C9-B597-ACB93D9D0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A3CE-C82B-4CD2-BFDB-D8A5C488B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E64AF-24FC-401E-A706-F9AD6F563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F15D0-A5A8-4DF4-AAE8-24B2BD3DD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AB226-2106-4EBC-9701-0ACA8E691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0C40D-BEDF-4797-B760-585671C23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676A2-E899-4CC2-AC07-DF4940AA8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83248-DF37-4B53-8A13-05E36694C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F3724-4422-401F-8C46-1336ABE54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6D152-2F84-4D52-8B24-5A563435B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6E661-4F98-4B5B-8AF5-0CD399F49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C20A1-EB6A-4D05-84B5-87A2B273E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428EE-64D8-450B-8607-87292FCDF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27D11-5AB7-4B29-85E7-E8AAE310A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0B97C-195E-4BF0-8D53-77B448A23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0F179-9584-4BD2-B8C5-DF6A352A0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5DBD5-F770-4FDB-9A09-D4519AC30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7A08E8-07CF-4F6A-B795-AA205F1F9F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4D672A-D09C-4302-A23F-C17E225B6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E15686-BE17-4D77-BC74-DF4C16D21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42C1DF-E742-426F-B30A-93C88274D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9E7D4-D331-433D-9E8D-528A7EA26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60B0-1455-4D75-9AA3-595B4854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75D5A-50F7-4A01-BF01-E5C12C403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2F6CE-166A-4460-8AA2-6F1AA2530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E396A-49D2-47C8-ADAB-EC14A6005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C42E7-EAA8-4798-840F-58C061B90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CFE8A-70D3-4B43-917D-512A6ECDC1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4A49D-2ADE-41E0-BAFB-F3C380B9C3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2A8C8D-173F-40D8-BCE7-D5BBD8E3E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27C7F3-4C43-400B-A2F3-C4FE3E7015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315B4-F317-48D0-85DA-41FE00C839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8871A-7277-418C-BCE0-9FE1D9A01A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D600E-8E2A-443D-8F6D-6FE0ADB55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D8402-6233-46FB-A4BE-CC473D681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65C647-4A0B-4D79-AA80-1270D389BB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5CA46-AAB3-4CB6-A345-A25A52457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8F26A-DB90-4E65-BDE2-09C5A89F3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88D1C-C452-42EB-A108-2D3FC1FAE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205DF-90EF-4507-9838-72CB77F28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13FA6-CC3C-4AF5-BBC4-65A33BD90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1A274E-0367-4351-B17B-F6315CDD1F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846FD1-7A45-4FBF-82C6-649B34E69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60B32-DCD7-4237-9BA9-8AFFAEAD3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2B0E8-FFCD-4394-93B8-86B340805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4436C-F60C-4132-955D-2053D6DDB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9F57-596F-439B-B558-B70356CE3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A5611-F224-4CDE-84EA-7E72F50B1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b3331">
            <a:alpha val="8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4440" indent="1016215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26120" indent="-2797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185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667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3F4A-4BEC-413D-8C74-B6C970A80A11}"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DF0A-5590-4045-A941-46353B2DD90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4440" indent="1016215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26120" indent="-2797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185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6672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14560" indent="-223920">
              <a:spcBef>
                <a:spcPts val="799"/>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B93B-70B7-4239-8890-DE4FFE42C4EE}" type="slidenum">
              <a:rPr b="0" lang="ro-RO"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7C13-05CF-4C0F-A4DB-A6C81B8E8F4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vreausaaflu.ro/" TargetMode="External"/><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4"/>
          <p:cNvSpPr/>
          <p:nvPr/>
        </p:nvSpPr>
        <p:spPr>
          <a:xfrm>
            <a:off x="785880" y="4857840"/>
            <a:ext cx="7358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ampanie organizată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sociaţia Pro-Vita filiala Bucureşti</a:t>
            </a:r>
            <a:endParaRPr b="0" lang="en-US" sz="1800" spc="-1" strike="noStrike">
              <a:solidFill>
                <a:srgbClr val="ffffff"/>
              </a:solidFill>
              <a:latin typeface="Times New Roman"/>
            </a:endParaRPr>
          </a:p>
        </p:txBody>
      </p:sp>
      <p:pic>
        <p:nvPicPr>
          <p:cNvPr id="185" name="Picture 7" descr="C:\Users\Victor\Desktop\vreausaaflulogo.png"/>
          <p:cNvPicPr/>
          <p:nvPr/>
        </p:nvPicPr>
        <p:blipFill>
          <a:blip r:embed="rId1"/>
          <a:stretch/>
        </p:blipFill>
        <p:spPr>
          <a:xfrm>
            <a:off x="3071880" y="2214720"/>
            <a:ext cx="2752560" cy="2714400"/>
          </a:xfrm>
          <a:prstGeom prst="rect">
            <a:avLst/>
          </a:prstGeom>
          <a:ln w="0">
            <a:noFill/>
          </a:ln>
        </p:spPr>
      </p:pic>
      <p:pic>
        <p:nvPicPr>
          <p:cNvPr id="186" name="Picture 13" descr="C:\Users\Victor\Desktop\provitalogo.png"/>
          <p:cNvPicPr/>
          <p:nvPr/>
        </p:nvPicPr>
        <p:blipFill>
          <a:blip r:embed="rId2"/>
          <a:stretch/>
        </p:blipFill>
        <p:spPr>
          <a:xfrm>
            <a:off x="2643120" y="0"/>
            <a:ext cx="3743280" cy="16383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acă este efectuat devreme, se tratează uşor</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acă se începe târziu rămân leziuni pe organele afectate şi pe sistemul nervo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3. Candidoza</a:t>
            </a:r>
            <a:endParaRPr b="0" lang="en-US" sz="5000" spc="-1" strike="noStrike">
              <a:solidFill>
                <a:srgbClr val="dbf5f9"/>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iuperci din genul Candida</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auze generale: diabet, obezitate, folosirea anticoncepţionalelor (măresc de 3 ori frecvenţă candidozelor  vaginale)</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auze locale</a:t>
            </a:r>
            <a:r>
              <a:rPr b="0" i="1" lang="ro-RO" sz="2600" spc="-1" strike="noStrike">
                <a:solidFill>
                  <a:srgbClr val="ffffff"/>
                </a:solidFill>
                <a:latin typeface="Calibri"/>
              </a:rPr>
              <a:t>: </a:t>
            </a:r>
            <a:r>
              <a:rPr b="0" lang="ro-RO" sz="2600" spc="-1" strike="noStrike">
                <a:solidFill>
                  <a:srgbClr val="ffffff"/>
                </a:solidFill>
                <a:latin typeface="Calibri"/>
              </a:rPr>
              <a:t>traumatisme mici repetate (explorări manuale, spălături vaginale etc.)</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La bărbaţi boala poate fi asimptomatică</a:t>
            </a:r>
            <a:endParaRPr b="0" lang="en-US" sz="2600" spc="-1" strike="noStrike">
              <a:solidFill>
                <a:srgbClr val="ffffff"/>
              </a:solidFill>
              <a:latin typeface="Calibri"/>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Manifestare:</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femei, mâncarime foarte intensă şi permanentă</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bărbaţi, mâncărime, urinări dese şi dureroase</a:t>
            </a:r>
            <a:endParaRPr b="0" lang="en-US" sz="2000" spc="-1" strike="noStrike">
              <a:solidFill>
                <a:srgbClr val="ffffff"/>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Complicaţii:</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bărbaţi candidoza se poate extinde la nivelul întregului aparat urogenital producând infecţia prostatei</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la femei infecţia urcă rar la uter şi trompe</a:t>
            </a:r>
            <a:endParaRPr b="0" lang="en-US" sz="20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scade fertilitatea</a:t>
            </a:r>
            <a:endParaRPr b="0" lang="en-US" sz="2000" spc="-1" strike="noStrike">
              <a:solidFill>
                <a:srgbClr val="ffffff"/>
              </a:solidFill>
              <a:latin typeface="Calibri"/>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 </a:t>
            </a:r>
            <a:endParaRPr b="0" lang="en-US" sz="2200" spc="-1" strike="noStrike">
              <a:solidFill>
                <a:srgbClr val="ffffff"/>
              </a:solidFill>
              <a:latin typeface="Calibri"/>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Calibri"/>
              </a:rPr>
              <a:t>Complicaţii psihice:</a:t>
            </a:r>
            <a:endParaRPr b="0" lang="en-US" sz="2200" spc="-1" strike="noStrike">
              <a:solidFill>
                <a:srgbClr val="ffffff"/>
              </a:solidFill>
              <a:latin typeface="Calibri"/>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datorită mâncărimii intense şi mai ales a frecventelor recidive, bolnavii sunt adesea obsedaţi de această infecţi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4. </a:t>
            </a:r>
            <a:r>
              <a:rPr b="1" lang="ro-RO" sz="5000" spc="-1" strike="noStrike">
                <a:solidFill>
                  <a:srgbClr val="dbf5f9"/>
                </a:solidFill>
                <a:latin typeface="Calibri"/>
              </a:rPr>
              <a:t>Clamidioza</a:t>
            </a:r>
            <a:endParaRPr b="0" lang="en-US" sz="5000" spc="-1" strike="noStrike">
              <a:solidFill>
                <a:srgbClr val="dbf5f9"/>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Cea mai frecventă</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Asociată cu gonoree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sexuală</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meroase cazuri asimptomatice</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Favorizată de anticoncepţionale</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Risc de 4 ori mai mare la utilizarea steriletulu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curgeri purulente, durer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terilitate – cea mai întâlnit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onjuctivită, artrită, complicații cardiace, neurologice, pulmonar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Risc mare de sarcină extrauterin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ază aprox. 10-20 de zile (dacă îţi dai seama că a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85480"/>
            <a:ext cx="8472600" cy="1562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dbf5f9"/>
                </a:solidFill>
                <a:latin typeface="Calibri"/>
              </a:rPr>
              <a:t>5. Infecția gonococică (Gonoreea/Blenoragia)</a:t>
            </a:r>
            <a:endParaRPr b="0" lang="en-US" sz="4500" spc="-1" strike="noStrike">
              <a:solidFill>
                <a:srgbClr val="dbf5f9"/>
              </a:solidFill>
              <a:latin typeface="Calibri"/>
            </a:endParaRPr>
          </a:p>
        </p:txBody>
      </p:sp>
      <p:sp>
        <p:nvSpPr>
          <p:cNvPr id="213" name=""/>
          <p:cNvSpPr txBox="1"/>
          <p:nvPr/>
        </p:nvSpPr>
        <p:spPr>
          <a:xfrm>
            <a:off x="428760" y="1928880"/>
            <a:ext cx="8229600" cy="4643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sexuală, dar nu numa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Se asociază cu chlamydi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onjuctivită, dureri de gât</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Bărbaţi – uretrită acută (scurgeri, dureri, sângerăr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Femei – infecţia colului uterin, trece deseori neobservat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Infertilitate (des)</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La femei, risc de sarcină ectopic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tă din timp se vindecă integral</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500" spc="-1" strike="noStrike">
                <a:solidFill>
                  <a:srgbClr val="dbf5f9"/>
                </a:solidFill>
                <a:latin typeface="Calibri"/>
              </a:rPr>
              <a:t>6. HPV (papillomavirus – negi genitali)</a:t>
            </a:r>
            <a:endParaRPr b="0" lang="en-US" sz="4500" spc="-1" strike="noStrike">
              <a:solidFill>
                <a:srgbClr val="dbf5f9"/>
              </a:solidFill>
              <a:latin typeface="Calibri"/>
            </a:endParaRPr>
          </a:p>
        </p:txBody>
      </p:sp>
      <p:sp>
        <p:nvSpPr>
          <p:cNvPr id="217" name=""/>
          <p:cNvSpPr txBox="1"/>
          <p:nvPr/>
        </p:nvSpPr>
        <p:spPr>
          <a:xfrm>
            <a:off x="457200" y="1934640"/>
            <a:ext cx="8229600" cy="4637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Excrescenţe de culoare roşie ori gri</a:t>
            </a:r>
            <a:endParaRPr b="0" lang="en-US" sz="24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re ori mâncărimi</a:t>
            </a:r>
            <a:endParaRPr b="0" lang="en-US" sz="24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a:t>
            </a:r>
            <a:endParaRPr b="0" lang="en-US" sz="2600" spc="-1" strike="noStrike">
              <a:solidFill>
                <a:srgbClr val="ffffff"/>
              </a:solidFill>
              <a:latin typeface="Calibri"/>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PRIN ATINGEREA ZONEI INFECTATE</a:t>
            </a:r>
            <a:endParaRPr b="0" lang="en-US" sz="24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Poate evolua în celule precanceroase, apoi canceroase</a:t>
            </a: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 există tratament</a:t>
            </a: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Posibilă legătură cu cancerul de col uterin</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7. Herpes genital (simplex)</a:t>
            </a:r>
            <a:endParaRPr b="0" lang="en-US" sz="5000" spc="-1" strike="noStrike">
              <a:solidFill>
                <a:srgbClr val="dbf5f9"/>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Foarte răspândit</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Iniţial, vezicule dureroase, la 3-4 săptămâni de la infectar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Dureri de cap, dureri de spate, stare generală de rău</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Veziculele sunt puternic infectate, transmiterea se face prin contact cu ele</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Nu există tratamen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Rounded Rectangle 14" descr=""/>
          <p:cNvPicPr/>
          <p:nvPr/>
        </p:nvPicPr>
        <p:blipFill>
          <a:blip r:embed="rId1"/>
          <a:stretch/>
        </p:blipFill>
        <p:spPr>
          <a:xfrm>
            <a:off x="1951200" y="-347760"/>
            <a:ext cx="4582800" cy="2279880"/>
          </a:xfrm>
          <a:prstGeom prst="rect">
            <a:avLst/>
          </a:prstGeom>
          <a:ln w="0">
            <a:noFill/>
          </a:ln>
        </p:spPr>
      </p:pic>
      <p:sp>
        <p:nvSpPr>
          <p:cNvPr id="188"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nd incepe viat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 este avortul</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devarul despre contracepti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BTS</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goste si sexualitate</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spre turma mass-media</a:t>
            </a:r>
            <a:endParaRPr b="0" lang="en-US" sz="3600" spc="-1" strike="noStrike">
              <a:solidFill>
                <a:srgbClr val="ffffff"/>
              </a:solidFill>
              <a:latin typeface="Times New Roman"/>
            </a:endParaRPr>
          </a:p>
          <a:p>
            <a:pPr marL="514440" indent="-51444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amil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dbf5f9"/>
                </a:solidFill>
                <a:latin typeface="Calibri"/>
              </a:rPr>
              <a:t>8. Tricomoniaza</a:t>
            </a:r>
            <a:endParaRPr b="0" lang="en-US" sz="5000" spc="-1" strike="noStrike">
              <a:solidFill>
                <a:srgbClr val="dbf5f9"/>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Răspândire de aprox. 30% la femei, 25% la bărbaţi</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nsmitere prin contact</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Bărbaţi (în general fără simptome)- infecţia uretrei</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Femei – scurgeri cu miros foarte neplăcut</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Efect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La femei este asociată cu vaginita</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Creşte riscul de infertilitate</a:t>
            </a:r>
            <a:endParaRPr b="0" lang="en-US" sz="24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Tratament antibiotic</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Users\roxi 20 ani\Desktop\Scortisoara\PRO-VITA\pozne\provita.JPG"/>
          <p:cNvPicPr/>
          <p:nvPr/>
        </p:nvPicPr>
        <p:blipFill>
          <a:blip r:embed="rId1"/>
          <a:stretch/>
        </p:blipFill>
        <p:spPr>
          <a:xfrm>
            <a:off x="1500120" y="285840"/>
            <a:ext cx="5972400" cy="1800000"/>
          </a:xfrm>
          <a:prstGeom prst="rect">
            <a:avLst/>
          </a:prstGeom>
          <a:ln w="0">
            <a:noFill/>
          </a:ln>
        </p:spPr>
      </p:pic>
      <p:sp>
        <p:nvSpPr>
          <p:cNvPr id="227" name=""/>
          <p:cNvSpPr txBox="1"/>
          <p:nvPr/>
        </p:nvSpPr>
        <p:spPr>
          <a:xfrm>
            <a:off x="50004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u="sng">
                <a:solidFill>
                  <a:srgbClr val="e2d700"/>
                </a:solidFill>
                <a:uFillTx/>
                <a:latin typeface="Calibri"/>
                <a:hlinkClick r:id="rId2"/>
              </a:rPr>
              <a:t>www.vreausaaflu.ro</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5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73080" y="701640"/>
            <a:ext cx="8699400" cy="1150920"/>
          </a:xfrm>
          <a:prstGeom prst="rect">
            <a:avLst/>
          </a:prstGeom>
          <a:ln w="0">
            <a:noFill/>
          </a:ln>
        </p:spPr>
      </p:pic>
      <p:pic>
        <p:nvPicPr>
          <p:cNvPr id="190" name="Content Placeholder 3" descr=""/>
          <p:cNvPicPr/>
          <p:nvPr/>
        </p:nvPicPr>
        <p:blipFill>
          <a:blip r:embed="rId2"/>
          <a:stretch/>
        </p:blipFill>
        <p:spPr>
          <a:xfrm>
            <a:off x="-103320" y="3260880"/>
            <a:ext cx="6553440" cy="193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500040" y="1071720"/>
            <a:ext cx="8229600" cy="4565520"/>
          </a:xfrm>
          <a:prstGeom prst="rect">
            <a:avLst/>
          </a:prstGeom>
          <a:noFill/>
          <a:ln w="0">
            <a:noFill/>
          </a:ln>
        </p:spPr>
        <p:txBody>
          <a:bodyPr anchor="t">
            <a:normAutofit fontScale="86000"/>
          </a:bodyPr>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HIV</a:t>
            </a:r>
            <a:r>
              <a:rPr b="1" lang="ro-RO" sz="3600" spc="-1" strike="noStrike">
                <a:solidFill>
                  <a:srgbClr val="f2f2f2"/>
                </a:solidFill>
                <a:latin typeface="Calibri"/>
              </a:rPr>
              <a:t> </a:t>
            </a:r>
            <a:r>
              <a:rPr b="1" lang="en-US" sz="3600" spc="-1" strike="noStrike">
                <a:solidFill>
                  <a:srgbClr val="f2f2f2"/>
                </a:solidFill>
                <a:latin typeface="Calibri"/>
              </a:rPr>
              <a:t>-</a:t>
            </a:r>
            <a:r>
              <a:rPr b="1" lang="ro-RO" sz="3600" spc="-1" strike="noStrike">
                <a:solidFill>
                  <a:srgbClr val="f2f2f2"/>
                </a:solidFill>
                <a:latin typeface="Calibri"/>
              </a:rPr>
              <a:t> </a:t>
            </a:r>
            <a:r>
              <a:rPr b="1" lang="en-US" sz="3600" spc="-1" strike="noStrike">
                <a:solidFill>
                  <a:srgbClr val="f2f2f2"/>
                </a:solidFill>
                <a:latin typeface="Calibri"/>
              </a:rPr>
              <a:t>SID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SIFILIS</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CANDIDOZ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CHLAMYDIA TRACHOMATIS</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GONOREEA</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f2f2"/>
                </a:solidFill>
                <a:latin typeface="Calibri"/>
              </a:rPr>
              <a:t>HPV</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HERPES SIMPLEX</a:t>
            </a:r>
            <a:endParaRPr b="0" lang="en-US" sz="3600" spc="-1" strike="noStrike">
              <a:solidFill>
                <a:srgbClr val="ffffff"/>
              </a:solidFill>
              <a:latin typeface="Calibri"/>
            </a:endParaRPr>
          </a:p>
          <a:p>
            <a:pPr marL="523800" indent="-523800">
              <a:spcBef>
                <a:spcPts val="901"/>
              </a:spcBef>
              <a:buClr>
                <a:srgbClr val="0bd0d9"/>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2f2f2"/>
                </a:solidFill>
                <a:latin typeface="Calibri"/>
              </a:rPr>
              <a:t>TRICOMONIAZA</a:t>
            </a:r>
            <a:endParaRPr b="0" lang="en-US" sz="3600" spc="-1" strike="noStrike">
              <a:solidFill>
                <a:srgbClr val="ffffff"/>
              </a:solidFill>
              <a:latin typeface="Calibri"/>
            </a:endParaRPr>
          </a:p>
          <a:p>
            <a:pPr marL="523800" indent="-52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1. HIV – SIDA </a:t>
            </a:r>
            <a:endParaRPr b="0" lang="en-US" sz="5000" spc="-1" strike="noStrike">
              <a:solidFill>
                <a:srgbClr val="dbf5f9"/>
              </a:solidFill>
              <a:latin typeface="Calibri"/>
            </a:endParaRPr>
          </a:p>
        </p:txBody>
      </p:sp>
      <p:sp>
        <p:nvSpPr>
          <p:cNvPr id="193" name=""/>
          <p:cNvSpPr txBox="1"/>
          <p:nvPr/>
        </p:nvSpPr>
        <p:spPr>
          <a:xfrm>
            <a:off x="428760" y="19998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SIDA (Sindromul Imunodeficienţei Dobândite) este un sindrom caracterizat prin infecţii şi tumori, secundare imunodepresiei celulare severe, produsă de virusul imunodeficienţei umane (HIV)</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acest virus distruge definitiv, într-un anumit interval de timp, imunitatea organismului, lăsându-l fără apărare faţă de infecţii şi tumori, ce îi vor provoca moartea</a:t>
            </a: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285840"/>
            <a:ext cx="8229600" cy="65721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Calibri"/>
              </a:rPr>
              <a:t>Evoluţia infecţiei HIV:</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infecţia cu HIV este în relaţie de proporţionalitate cu cantitatea de virus patrunsă în organism şi cu receptivitatea gazdei (35% - prezervativ)</a:t>
            </a: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Fereastra de seronegativitate: </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de la momentul infectant şi până la seroconversie (când în sângele pacientului se poate depista HIV-ul) există o perioada de la 2 la 6 luni de seronegativitate, purtătorul fiind infectat cu HIV şi infectant (poate infecta deja pe alţii), dar seronegativ</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Seroconversia (infecţia HIV depistată în sâng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uneori apare o “stare gripală” cu febră, dureri musculare şi articulare, somnolenţă, timp de 3-14 zil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Perioada de latenţă (fără simptome):</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urmează o perioadă variabilă ca durată, în care subiectul infectat şi seropozitiv nu prezintă niciun semn de boală</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ceastă perioadă poate dura de la câteva luni de zile (sugari) la ani de zile, uneori chiar 10-15 ani sau mai mulțiBoala SIDA:</a:t>
            </a:r>
            <a:endParaRPr b="0" lang="en-US" sz="2000" spc="-1" strike="noStrike">
              <a:solidFill>
                <a:srgbClr val="ffffff"/>
              </a:solidFill>
              <a:latin typeface="Calibri"/>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pariția și instalarea bolii SIDA constă în prăbuşirea imunităţii organismului</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Calibri"/>
              </a:rPr>
              <a:t>această prăbuşire a imunităţii determină apariția de infecţii şi tumori canceroase </a:t>
            </a:r>
            <a:endParaRPr b="0" lang="en-US" sz="2000" spc="-1" strike="noStrike">
              <a:solidFill>
                <a:srgbClr val="ffffff"/>
              </a:solidFill>
              <a:latin typeface="Calibri"/>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pic>
        <p:nvPicPr>
          <p:cNvPr id="197" name="Picture 4" descr=""/>
          <p:cNvPicPr/>
          <p:nvPr/>
        </p:nvPicPr>
        <p:blipFill>
          <a:blip r:embed="rId1"/>
          <a:srcRect l="22461" t="21878" r="12502" b="7814"/>
          <a:stretch/>
        </p:blipFill>
        <p:spPr>
          <a:xfrm>
            <a:off x="428760" y="928800"/>
            <a:ext cx="7929360" cy="53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000" spc="-1" strike="noStrike">
                <a:solidFill>
                  <a:srgbClr val="dbf5f9"/>
                </a:solidFill>
                <a:latin typeface="Calibri"/>
              </a:rPr>
              <a:t>2. Sifilisul</a:t>
            </a:r>
            <a:endParaRPr b="0" lang="en-US" sz="5000" spc="-1" strike="noStrike">
              <a:solidFill>
                <a:srgbClr val="dbf5f9"/>
              </a:solidFill>
              <a:latin typeface="Calibri"/>
            </a:endParaRPr>
          </a:p>
        </p:txBody>
      </p:sp>
      <p:sp>
        <p:nvSpPr>
          <p:cNvPr id="199" name=""/>
          <p:cNvSpPr txBox="1"/>
          <p:nvPr/>
        </p:nvSpPr>
        <p:spPr>
          <a:xfrm>
            <a:off x="457200" y="1571760"/>
            <a:ext cx="8229600" cy="47527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Transmitere directă pe cale sexuală, prin contactul cu fluide biologice infectate (sperma, secretii vaginale) sau prin contact direct cu ulceratiile provocate de infectie – 30-50%</a:t>
            </a:r>
            <a:endParaRPr b="0" lang="en-US" sz="2800" spc="-1" strike="noStrike">
              <a:solidFill>
                <a:srgbClr val="ffffff"/>
              </a:solidFill>
              <a:latin typeface="Calibri"/>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Foarte contagios</a:t>
            </a:r>
            <a:endParaRPr b="0" lang="en-US" sz="2800" spc="-1" strike="noStrike">
              <a:solidFill>
                <a:srgbClr val="ffffff"/>
              </a:solidFill>
              <a:latin typeface="Calibri"/>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alibri"/>
              </a:rPr>
              <a:t>Congenital (placentar)</a:t>
            </a:r>
            <a:endParaRPr b="0" lang="en-US" sz="2800" spc="-1" strike="noStrike">
              <a:solidFill>
                <a:srgbClr val="ffffff"/>
              </a:solidFill>
              <a:latin typeface="Calibri"/>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alibri"/>
              </a:rPr>
              <a:t>Manifestare:</a:t>
            </a:r>
            <a:endParaRPr b="0" lang="en-US" sz="26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Ulceraţii, zone purulente, în general în zona genitală</a:t>
            </a:r>
            <a:endParaRPr b="0" lang="en-US" sz="2400" spc="-1" strike="noStrike">
              <a:solidFill>
                <a:srgbClr val="ffffff"/>
              </a:solidFill>
              <a:latin typeface="Calibri"/>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Toate organele corpului afectate</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Posibil să apară şi în zone nongenitale - zona anală sau zona bucală (buze, limba), în gât (faringe). Mult mai rar sancrul poate apărea şi în alte zone precum narile, degetele sau faţa</a:t>
            </a:r>
            <a:endParaRPr b="0" lang="en-US" sz="2400" spc="-1" strike="noStrike">
              <a:solidFill>
                <a:srgbClr val="ffffff"/>
              </a:solidFill>
              <a:latin typeface="Calibri"/>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alibri"/>
              </a:rPr>
              <a:t>simptomele pot trece şi netratate, </a:t>
            </a:r>
            <a:endParaRPr b="0" lang="en-US" sz="2400" spc="-1" strike="noStrike">
              <a:solidFill>
                <a:srgbClr val="ffffff"/>
              </a:solidFill>
              <a:latin typeface="Calibri"/>
            </a:endParaRPr>
          </a:p>
          <a:p>
            <a:pPr lvl="1" marL="639720" indent="-24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alibri"/>
              </a:rPr>
              <a:t> </a:t>
            </a:r>
            <a:r>
              <a:rPr b="0" lang="ro-RO" sz="3200" spc="-1" strike="noStrike">
                <a:solidFill>
                  <a:srgbClr val="ffffff"/>
                </a:solidFill>
                <a:latin typeface="Calibri"/>
              </a:rPr>
              <a:t>INFECŢIA RĂMÂN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2:08:25Z</dcterms:created>
  <dc:creator>Dream</dc:creator>
  <dc:description/>
  <dc:language>en-US</dc:language>
  <cp:lastModifiedBy>noi5</cp:lastModifiedBy>
  <dcterms:modified xsi:type="dcterms:W3CDTF">2009-10-21T07:57:12Z</dcterms:modified>
  <cp:revision>238</cp:revision>
  <dc:subject/>
  <dc:title>Slide 1</dc:title>
</cp:coreProperties>
</file>