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6481-0442-4F73-9A28-9DC7B43B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A7DD-6252-4884-A134-5BF9861AE6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A4E7-3AB4-44D7-AAAE-41D23BF715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0FD6-D930-408C-ACF8-459DD21C7A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A318-0933-48F3-88C7-5CF689558C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875-22A6-4822-9B34-5586D4DB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943-BB56-4759-9574-2D7805A2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30C-2893-4F8A-AB64-69CDD230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899-7813-4AB8-8EFF-F9C62335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37B-758B-4612-AAA2-D237555F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5A9-AB31-4DEE-BCBE-4F40336B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DB75-7E70-42CD-B356-F43624D3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613B-DCF2-4D67-9FD5-0B34C6CE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BD41-9A68-41D0-9CF9-533DB3E7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39EA-BDA4-4676-870F-3E4985B2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C01B-7146-47ED-891A-077B86C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9E2-4E62-4378-815D-FC0DF812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5EB5-2EEF-4FCD-9CC4-4C9BC0DF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FD9A-12FD-4B61-B4FB-129EA19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0343-4465-4159-8B54-049474A6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869F-F16A-469C-87DA-E32A6E06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7B27-B7FA-4547-BAE6-796480F1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9C3-7F7C-4A7C-9BF2-21D16856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DAA-D5F9-4F56-80D3-FA370C41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411-76CB-4F56-9421-1F566E9B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7E9-CDA4-4C1D-86B1-51ABC48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1AB-5DE7-4457-A1C9-0B83301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F89-A548-43DA-9AB2-2E68B707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FF2-7A59-4F77-B43D-86C0C886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BE05-8C58-4CB9-9EA8-A944F257F172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1B56-D1D1-4725-8D2A-99FBF0FB4EE6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reausaaflu.ro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Users\Victor\Desktop\vreausaaflulogo.png"/>
          <p:cNvPicPr/>
          <p:nvPr/>
        </p:nvPicPr>
        <p:blipFill>
          <a:blip r:embed="rId1"/>
          <a:stretch/>
        </p:blipFill>
        <p:spPr>
          <a:xfrm>
            <a:off x="1403280" y="233280"/>
            <a:ext cx="6140520" cy="605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712800" y="1924200"/>
            <a:ext cx="591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ubirea si sexualitatea stau la baza famili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xualitate bolnav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milie boln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31528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569880" y="1911240"/>
            <a:ext cx="842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ierderea simțului pudorii, unul din elementele fundamentale ale moralităț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stovește forțele fizice și intelectu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heltuirea de averi (ex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oate fi atins de boli grele, contagioase și mort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Bătrânețe prematur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569880" y="1793880"/>
            <a:ext cx="842004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duce obișnuițe train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aralizează orice avânt spre desăvârș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rupul este acela care comandă tiranic, iar voința devine sclav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pradimensionarea imaginarului, a irealului, a fantasmagoric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ntunecă min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mpietrește in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ndepărtează pe om de Dumneze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315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307800" y="2077920"/>
            <a:ext cx="8836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devine egoist și obsed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nu vede persoana pe care o dorește așa cum este, ci așa cum o vrea sau îi trebuie 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ersoana celuilalt devine o proiecție a dorințelor și poftelor sale</a:t>
            </a:r>
            <a:br>
              <a:rPr sz="3200"/>
            </a:b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ersoana celuilalt este iubită cu o iubire falsă, și este redusă la aparența ei exterioară</a:t>
            </a:r>
            <a:br>
              <a:rPr sz="3200"/>
            </a:b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nu reușește să pătrundă în miezul ființei iubite ci se rezumă doar la înveliș (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7800" y="2077920"/>
            <a:ext cx="88362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Cunoaște o tensiune și o teamă de necunoscut. Teama de a nu pierde lucrul iubit sau de a nu fi abandonat de acesta, atâta timp cât așa îi este alimentată dependenț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rupul îl subjugă, simțurile îl stăpânes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ste incapabil să iubească, să se jertfească pentru celăl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73080" y="506520"/>
            <a:ext cx="8699400" cy="1157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511200" y="1841400"/>
            <a:ext cx="844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rugăciune stăruito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smer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AZA TRUPULUI ȘI A SIMȚURI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mărturis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ÎNFRÂNAREA! Postul și munca fizi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PAZA MINȚII- gândurile și privi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Gândul la eternitate! Ce iubim la fetele frumoa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Iubirea sufletului mai mult decât a trup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414360" y="1449360"/>
            <a:ext cx="8350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provitabucuresti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32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www.vreausaaflu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Mail &amp; id Messeng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xana - vreausaaflu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@yahoo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3" descr="C:\Users\Victor\Desktop\provitalogo.png"/>
          <p:cNvPicPr/>
          <p:nvPr/>
        </p:nvPicPr>
        <p:blipFill>
          <a:blip r:embed="rId2"/>
          <a:srcRect l="0" t="0" r="337" b="0"/>
          <a:stretch/>
        </p:blipFill>
        <p:spPr>
          <a:xfrm>
            <a:off x="2655720" y="0"/>
            <a:ext cx="37306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ounded Rectangle 14" descr=""/>
          <p:cNvPicPr/>
          <p:nvPr/>
        </p:nvPicPr>
        <p:blipFill>
          <a:blip r:embed="rId1"/>
          <a:stretch/>
        </p:blipFill>
        <p:spPr>
          <a:xfrm>
            <a:off x="1951200" y="-347760"/>
            <a:ext cx="4582800" cy="2279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996840" y="1484280"/>
            <a:ext cx="7767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pre turma mass-med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agoste si sexuali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nd incepe vi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e este avortu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evarul despre contracept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pre B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mil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iagram 4" descr=""/>
          <p:cNvPicPr/>
          <p:nvPr/>
        </p:nvPicPr>
        <p:blipFill>
          <a:blip r:embed="rId1"/>
          <a:stretch/>
        </p:blipFill>
        <p:spPr>
          <a:xfrm>
            <a:off x="822240" y="695160"/>
            <a:ext cx="76885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dbf5f9"/>
                </a:solidFill>
                <a:latin typeface="Calibri"/>
              </a:rPr>
              <a:t>Mass-media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Promovează o cultură de masă, diferită de cultura elevată, nobilă (școala, Biserica, famil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Promovează valori grosiere: erotismul, egoismul, frumusețea fizică masculină și feminină, violența, scandalul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CEL MAI PUTERNIC IMPACT ASUPRA TINERILOR ÎL ARE TELEVIZIUNEA. mimesi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Larga mediatizare împotriva moralei creștine – pentru a câștiga adepț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Vidul spirtual din sufletele tinerilor  (secte satanice, sinuciderea, etc.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000" indent="861249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VALORI ETERNE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nstantia"/>
              </a:rPr>
              <a:t>Iubirea (egoism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nstantia"/>
              </a:rPr>
              <a:t>Ascultarea (rebelism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285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0"/>
            </a:br>
            <a:br>
              <a:rPr sz="9000"/>
            </a:br>
            <a:r>
              <a:rPr b="0" lang="en-US" sz="9000" spc="-1" strike="noStrike">
                <a:solidFill>
                  <a:srgbClr val="dbf5f9"/>
                </a:solidFill>
                <a:latin typeface="Calibri"/>
              </a:rPr>
              <a:t>Existenta inlocuieste esenta!</a:t>
            </a:r>
            <a:endParaRPr b="0" lang="en-US" sz="9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0720" y="1530360"/>
            <a:ext cx="832176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50800" y="2928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o-RO" sz="2400" spc="-1" strike="noStrike">
                <a:solidFill>
                  <a:srgbClr val="dbf5f9"/>
                </a:solidFill>
                <a:latin typeface="Arial"/>
              </a:rPr>
              <a:t>...când se trage de coloană?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122400" y="701640"/>
            <a:ext cx="89787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2:08:25Z</dcterms:created>
  <dc:creator>Dream</dc:creator>
  <dc:description/>
  <dc:language>en-US</dc:language>
  <cp:lastModifiedBy>roxi 20 ani</cp:lastModifiedBy>
  <dcterms:modified xsi:type="dcterms:W3CDTF">2009-05-04T16:48:20Z</dcterms:modified>
  <cp:revision>513</cp:revision>
  <dc:subject/>
  <dc:title>Slide 1</dc:title>
</cp:coreProperties>
</file>