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C7C3-50B2-4EF1-AC22-BECB0BCA1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E99C-B3F4-40A7-B9F6-9495FB12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374F-8D27-44E2-85EA-8C0D0EA6E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5042-57FF-488A-A4D6-A223EF05D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B6D7-ADEE-4FBD-8A92-2822EDDC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A100-19EE-4DCA-84D2-C6C03B59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9035-4A84-43AD-AB54-881E9D58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4928-08B3-4323-B938-149893A5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23B0-F90D-4937-96C0-97B85F52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77E3-DAC8-4862-9626-64F02DB1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A7AE-58F9-4DDE-9A8E-23282F11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28BF-000A-45BA-8D8F-E07E7708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3f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E306-205B-4099-B58D-EA454CC63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E:/clipuri/ALTEX-nebunul.mpg" TargetMode="External"/><Relationship Id="rId2" Type="http://schemas.openxmlformats.org/officeDocument/2006/relationships/hyperlink" Target="file:///E:/clipuri/ALTEX-nebunul.mpg" TargetMode="External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3f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5280" y="1773360"/>
            <a:ext cx="81360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OLILE   CU  TRANSMITER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EXUALĂ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3f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0360" y="274320"/>
            <a:ext cx="39592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 u="sng">
                <a:solidFill>
                  <a:srgbClr val="000000"/>
                </a:solidFill>
                <a:uFillTx/>
                <a:latin typeface="Arial"/>
              </a:rPr>
              <a:t>Chlamy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e foarte răspândită printre tineri. Aceasta boală afectează aproximativ 1/3 dintre persoanele active sexual.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%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e persoane nu au nici cea mai mică idee că ar putea avea această boală pentru că 3 din 4 persoa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 au nici un fel de simpto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o-RO" sz="2000" spc="-1" strike="noStrike">
                <a:solidFill>
                  <a:srgbClr val="000000"/>
                </a:solidFill>
                <a:latin typeface="Arial"/>
              </a:rPr>
              <a:t>imptomele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000" spc="-1" strike="noStrike" u="sng">
                <a:solidFill>
                  <a:srgbClr val="000000"/>
                </a:solidFill>
                <a:uFillTx/>
                <a:latin typeface="Arial"/>
              </a:rPr>
              <a:t>Bărbaţi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000" spc="-1" strike="noStrike" u="sng">
                <a:solidFill>
                  <a:srgbClr val="000000"/>
                </a:solidFill>
                <a:uFillTx/>
                <a:latin typeface="Arial"/>
              </a:rPr>
              <a:t>Fem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secreţii uretral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dureri abdomi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arsuri la urin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sângerări sau secreţ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arsuri la urin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robleme deosebi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nfecţi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ecteaz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permanent organ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de reproduc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emin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ificultăţi în a rămâne însărcinată mai târziu când ţi-ai putea do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terili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emeile, dacă rămân însărcinate pot avea o mai mare rată de pierdere a sarcinii datorită ţesutului cicatrizat sau pot avea o sarcină ext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terin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3f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00000" y="274680"/>
            <a:ext cx="76327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 u="sng">
                <a:solidFill>
                  <a:srgbClr val="000000"/>
                </a:solidFill>
                <a:uFillTx/>
                <a:latin typeface="Arial"/>
              </a:rPr>
              <a:t>VIRUSUL PAPILOMATOZEI UMA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cest virus cauzează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negii genital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 fiecare 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pa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5,5 milioane de cazuri noi şi 20 milioane de persoane sunt infestate numai în SU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u există leac pentru VPU. Este o boală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incurabilă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. Negii pot fi extraşi însă ei r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eapa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escrieri ale negilo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ot fi foarte mici sau foarte m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ot fi dureroşi şi pot provoca mâncărimi sau iritaţ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 posibil ca o persoană să aibă acest virus şi să nu ş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Virusul Papilomatozei Umane cauzează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ancerul cervica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care este unul dintre principalii factori ce cauzează moartea la fem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3f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79360" y="-1192320"/>
            <a:ext cx="5808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79360" y="-1192320"/>
            <a:ext cx="5808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79360" y="-1192320"/>
            <a:ext cx="5808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640" y="507456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4608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 u="sng">
                <a:solidFill>
                  <a:srgbClr val="000000"/>
                </a:solidFill>
                <a:uFillTx/>
                <a:latin typeface="Arial"/>
              </a:rPr>
              <a:t>Mituri despre B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Arial"/>
              </a:rPr>
              <a:t>Daca mă simt bine nu pot fi infect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nfecţii oligosimptomatice sau asimptoma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Arial"/>
              </a:rPr>
              <a:t>Prezervativul asigură o protecţie de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ncidente: alunecare, rup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xistenţa porilor ocazionali de 1,5 microni – mai mici decât leucocitul; dar de 10 ori mai mari decât HIV şi de 25 de ori mai mari decât virusul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patitei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Arial"/>
              </a:rPr>
              <a:t>Dacă am un singur partener sexual o perioadă de timp atunci nu pot fi infect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l mai frecvent tip de transmitere a BTS este transmiterea de tip “monogamie succesivă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Arial"/>
              </a:rPr>
              <a:t>Nu pot să fiu infectat de la primul contact sex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dolescentele sunt mai predispuse BTS datorita: tipului de epiteliu ce acoperă colul uterin, calitatea mucusului, imunitatea nespecifică mai mic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3f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46087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 u="sng">
                <a:solidFill>
                  <a:srgbClr val="000000"/>
                </a:solidFill>
                <a:uFillTx/>
                <a:latin typeface="Arial"/>
              </a:rPr>
              <a:t>Prevenirea B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9840" y="1341000"/>
            <a:ext cx="8713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Consultu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dicului de famili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chiar şi pentr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imptomatologie minim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Mijloace de prevenţ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rezervativul - 85%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HIV – aceste procent este mai mic pentru adolescenţi; 0% pentru Sifilis şi Herpes; variabil pentru celelalte B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rmicidele – Nonoxynol 9 – produc iritaţii ale mucoaselor cu apariţia de microleziuni ce c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riscul infecţi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titudinea noastr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Abstinenţă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înainte de căsăto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Monogamie absolută – fidelitate faţă de part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3f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11280" y="1628640"/>
            <a:ext cx="78483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Vă mulţumesc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3f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orile promova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e neg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ingerea celor care nu indeplinesc criteri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ocentrism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ul de inferiori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3f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42920" y="476280"/>
            <a:ext cx="338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rcul viet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1530360"/>
            <a:ext cx="871380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3f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42920" y="476280"/>
            <a:ext cx="2881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e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boala cu transmitere sexuală este o infecţie care este transmisă de la o persoana la alta în timpul raportului sexu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A, Clamidia, VPU, her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gonoreea, hepatita B, sifilisu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3859560"/>
            <a:ext cx="8088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lile cu transmitere sexuală sunt cele mai răspândite boli infecţioase în afară de răceală şi grip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ă 3 milioane de noi cazuri pe an printre adolescenţi (fără a include aici SIDA ) (SUA, 199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rma cu 50 de ani erau cunoscute doar 2 BTS. Astazi exista peste 25 de agenti etiologici si aproape 50 de sindroame clin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3f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sto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960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– nu existau decât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 BTS mai grav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– sifilisul şi gonore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1976 – s-au raportat primele infecţii cu Chlamydia trachoma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1993, SUA – cea mai des întâlnită B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1981 – s-a identificat prima data virusul imuno-deficienţei umane (HI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1985 – incidenţa infectiei cu virusului papilomatos uman (HPV) este m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n 1991 – 46% din studenţii activi sexual sunt infectaţ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ro-RO" sz="24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ro-RO" sz="2400" spc="-1" strike="noStrike">
                <a:solidFill>
                  <a:srgbClr val="000000"/>
                </a:solidFill>
                <a:latin typeface="Arial"/>
              </a:rPr>
              <a:t>Epoca SIDA</a:t>
            </a: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 25 agenţi - 50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3f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2000 – 2001,  în fiecare zi pe glob sunt infectaţi cu HIV peste 6000 de tineri cu vârsta cuprinsă între 15-24 ani; unul la fiecare 5 minu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66% din totalitatea BTS sunt raportate la tineri intr 15 si 25 de a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rma cu 50 de ani erau cunoscute doar 2 BTS. Astazi exista peste 25 de agenti si aproape 50 de sindroame clin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842920" y="274320"/>
            <a:ext cx="309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alitat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3f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Film </a:t>
            </a:r>
            <a:br>
              <a:rPr sz="4000"/>
            </a:br>
            <a:br>
              <a:rPr sz="4000"/>
            </a:br>
            <a:r>
              <a:rPr b="0" lang="ro-RO" sz="4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N YOUR FACE</a:t>
            </a: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3f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68000" y="188640"/>
            <a:ext cx="4248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 u="sng">
                <a:solidFill>
                  <a:srgbClr val="000000"/>
                </a:solidFill>
                <a:uFillTx/>
                <a:latin typeface="Arial"/>
              </a:rPr>
              <a:t>HIV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o-RO" sz="4000" spc="-1" strike="noStrike" u="sng">
                <a:solidFill>
                  <a:srgbClr val="000000"/>
                </a:solidFill>
                <a:uFillTx/>
                <a:latin typeface="Arial"/>
              </a:rPr>
              <a:t>/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o-RO" sz="4000" spc="-1" strike="noStrike" u="sng">
                <a:solidFill>
                  <a:srgbClr val="000000"/>
                </a:solidFill>
                <a:uFillTx/>
                <a:latin typeface="Arial"/>
              </a:rPr>
              <a:t>S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0755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irusul Imunodeficientei Um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Sindromul Imunodeficientei Umane Achizitio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Evoluţia infecţie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eces rapid - &lt;1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simptomatic pana la 15 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i de transmit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ct sex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nsumul de droguri (acele de uz com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nsumul de alco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atuaj, piercing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rati de cru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ale transplacentară (de la mamă la cop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 poţi lua o boala: de pe toaletă, de pe acelaşi telefon public, prin strângeri de mână, înţepături de insecte, îmbrăţişăr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3f4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39640" y="188640"/>
            <a:ext cx="40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 u="sng">
                <a:solidFill>
                  <a:srgbClr val="333399"/>
                </a:solidFill>
                <a:uFillTx/>
                <a:latin typeface="Arial"/>
              </a:rPr>
              <a:t>Stadiu S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4365360"/>
            <a:ext cx="822960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voluţia tipică a bol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tome asemănătoare cu ale gripei, scăderi în greutate, ( ulterior vor dispăre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te câteva luni sau ani pot apărea următoarele boli: pneumonie, tumori, cancere, leziuni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la poate afecta capacităţile intelectuale, generând stări de confuzie, pierderea memoriei, psiho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2296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0:05:10Z</dcterms:created>
  <dc:creator>jon</dc:creator>
  <dc:description/>
  <dc:language>en-US</dc:language>
  <cp:lastModifiedBy>dan</cp:lastModifiedBy>
  <dcterms:modified xsi:type="dcterms:W3CDTF">2008-03-17T08:15:58Z</dcterms:modified>
  <cp:revision>20</cp:revision>
  <dc:subject/>
  <dc:title>Slide 1</dc:title>
</cp:coreProperties>
</file>