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374-309C-4E9F-BD41-43A81CD3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2AA-8A27-4F76-8426-014FC6E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BB2-C8A5-43D2-86D2-C7F55607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F0E-CC35-4181-B498-14822587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930-BD34-4317-A1A0-D7F168C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902-353C-4884-9BEC-BD2D72F1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1F9-E7C9-40E7-9D2C-6F653FD9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762-318A-4CDC-AE02-65F36B5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5CE-7045-409D-A9BF-C834795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8EC-6C9E-4306-9120-A48F4840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2DB-D56D-4250-8491-F868874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F0F-8622-45C5-BD25-13C90AC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F1D8-99BC-4E92-8FA8-ABEAA37CA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enpregnancz.org/facts.htm" TargetMode="External"/><Relationship Id="rId2" Type="http://schemas.openxmlformats.org/officeDocument/2006/relationships/hyperlink" Target="http://www.teenpregnancz.org/fact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16280"/>
            <a:ext cx="82789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000000"/>
                </a:solidFill>
                <a:latin typeface="Arial"/>
              </a:rPr>
              <a:t>SARCINA – AV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530360"/>
            <a:ext cx="8713800" cy="5138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43280" y="476280"/>
            <a:ext cx="33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cul vie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000000"/>
                </a:solidFill>
                <a:uFillTx/>
                <a:latin typeface="Arial"/>
              </a:rPr>
              <a:t>Incidenţa sarcinii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la adolescenţi în Statele 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an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1 milion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Pe z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 puţin 2,700 de adol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Avortu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Naşteri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âteva pierderi de sarc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sarcină afectează mult viaţa adolescentelor, a copiilor şi a taţilor adolescenţ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urs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enpregnancz.org/fact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clul fertilitatii la feme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este născută ea are deja toate ovulele pe care le va avea vreodată – 400.000 (ele rămân aşa în perioada copilări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nd o fată ajunge la vârsta de 12, 13 ani, apar hormonii (estrogenul este secretat) şi astfel este eliminat primul ov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ulul stă in trompa uterină pentru 2 zile şi se dezintegrează atunci când nu apare fertilizarea cu un spermatoz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 acest timp uterul este format din vase de sânge şi membrana ce se pregăteşte să dezvolte ovulul dacă apare fertilizarea (dacă ovulul se transformă într-un viitor copila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2 săptămâni dupa ce ovulul a fost eliberat, femeia are acea scurgere – care este numită ciclu menstr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iclu menstrual la o femeie durează aproximativ 30 zile – ciclul fertilită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632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formaţii despre sarcin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rice fată poate răm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 însărcinat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a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u se poate şti cu precizi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rcina poate aparea in fiecare 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oarece ciclul este perturbat de mai multi factori: adolescenta, stres, oboseala, infec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ţa începe în momentul concepţ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 momentul conceptiei materialul genetic, ADN-ul este complet si contine toate caracteristicile viitorului adult. Aceasta are nevoie de hrana si protec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untem unici si egali ca valo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Nu există protecţie 100% decât abstinenţ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e impact are o sarcină în viaţa unui adolesc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ducat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legătură este între a avea un copil şi planurile cu şcoa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itorului profesion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um ne afecteaza viitorul profesinal?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roblemelor financ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costă mult ca să poţi creşte un copil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elatiei cu fami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 va reacţiona familia 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ervici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e fel de slujbă te aştepţi să poţi avea ca şi adolesc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Vietii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zi ca viaţa ta socială se va schimb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secintele asupra copil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ţi tu însuţi să creşti un alt copil când mai ai tu încă nevoie să creş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tapele de criză parcurse de adol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lescenţ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Anxietate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ri fiz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str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nţelor din ce în ce mai m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siuni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urajul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voi interioare noi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imitate, atracţie faţă de sexul op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enţa sexual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 este o experienţă banal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a te schimbă profund. Aduce frică, teamă, ascundere, vulnerabilitate, rupe relaţiile cu cei din j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c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 să fac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r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are o soluţie dar nu este de fapt decâ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 nouă problem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19280" y="220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19280" y="24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2400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1928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Alege liber libertate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000000"/>
                </a:solidFill>
                <a:latin typeface="Arial"/>
              </a:rPr>
              <a:t>Vă mulţumes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b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11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e aduce avortu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legate de proced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area ute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rderea sarcinilor ulteri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t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ecinte psihologic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uş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abilitate de relationa cu viitorii cop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dromul de Stres Post Av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resie, coşmaruri, flash-backuri, teamă, vinovăţie, greutate în a relaţiona cu copiii, partenerul de viaţă, părinţii – care adesea impun avortul, frica de sunet de aspirator, sindromul aniversării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21:07:49Z</dcterms:created>
  <dc:creator>jon</dc:creator>
  <dc:description/>
  <dc:language>en-US</dc:language>
  <cp:lastModifiedBy>dan</cp:lastModifiedBy>
  <dcterms:modified xsi:type="dcterms:W3CDTF">2008-03-26T07:24:20Z</dcterms:modified>
  <cp:revision>13</cp:revision>
  <dc:subject/>
  <dc:title>Slide 1</dc:title>
</cp:coreProperties>
</file>